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2659C-69D7-4911-A792-CF7F631505A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10202-B1A9-43EC-8471-12BF5952AA9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9" name="PlaceHolder 1"/>
          <p:cNvSpPr>
            <a:spLocks noGrp="1"/>
          </p:cNvSpPr>
          <p:nvPr>
            <p:ph type="sldImg"/>
          </p:nvPr>
        </p:nvSpPr>
        <p:spPr>
          <a:xfrm>
            <a:off x="985680" y="733320"/>
            <a:ext cx="4886640" cy="3665520"/>
          </a:xfrm>
          <a:prstGeom prst="rect">
            <a:avLst/>
          </a:prstGeom>
          <a:ln w="0">
            <a:noFill/>
          </a:ln>
        </p:spPr>
      </p:sp>
      <p:sp>
        <p:nvSpPr>
          <p:cNvPr id="685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D6373-D314-4CA0-9307-01E3B736FE4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4B09D8-A423-435C-907D-F1958A2AC5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85" name="PlaceHolder 1"/>
          <p:cNvSpPr>
            <a:spLocks noGrp="1"/>
          </p:cNvSpPr>
          <p:nvPr>
            <p:ph type="sldImg"/>
          </p:nvPr>
        </p:nvSpPr>
        <p:spPr>
          <a:xfrm>
            <a:off x="985680" y="741240"/>
            <a:ext cx="4886640" cy="3665520"/>
          </a:xfrm>
          <a:prstGeom prst="rect">
            <a:avLst/>
          </a:prstGeom>
          <a:ln w="0">
            <a:noFill/>
          </a:ln>
        </p:spPr>
      </p:sp>
      <p:sp>
        <p:nvSpPr>
          <p:cNvPr id="6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4B1F0-AEAA-4F45-A08D-BE4FAA1137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7AB8B-DE26-460C-ABA2-C305E8BEDB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89" name="PlaceHolder 1"/>
          <p:cNvSpPr>
            <a:spLocks noGrp="1"/>
          </p:cNvSpPr>
          <p:nvPr>
            <p:ph type="sldImg"/>
          </p:nvPr>
        </p:nvSpPr>
        <p:spPr>
          <a:xfrm>
            <a:off x="985680" y="741240"/>
            <a:ext cx="4886640" cy="3665520"/>
          </a:xfrm>
          <a:prstGeom prst="rect">
            <a:avLst/>
          </a:prstGeom>
          <a:ln w="0">
            <a:noFill/>
          </a:ln>
        </p:spPr>
      </p:sp>
      <p:sp>
        <p:nvSpPr>
          <p:cNvPr id="6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71B1E-7AFD-4710-A735-F10B1442139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6D9EB9-B3E3-4FE9-9354-2E6DA32E13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93" name="PlaceHolder 1"/>
          <p:cNvSpPr>
            <a:spLocks noGrp="1"/>
          </p:cNvSpPr>
          <p:nvPr>
            <p:ph type="sldImg"/>
          </p:nvPr>
        </p:nvSpPr>
        <p:spPr>
          <a:xfrm>
            <a:off x="985680" y="741240"/>
            <a:ext cx="4886640" cy="3665520"/>
          </a:xfrm>
          <a:prstGeom prst="rect">
            <a:avLst/>
          </a:prstGeom>
          <a:ln w="0">
            <a:noFill/>
          </a:ln>
        </p:spPr>
      </p:sp>
      <p:sp>
        <p:nvSpPr>
          <p:cNvPr id="6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6B44A-2CB7-4361-9BFA-56D89EF950E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C87CB-5B69-4A6E-9CE9-C72DBC86B96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97" name="PlaceHolder 1"/>
          <p:cNvSpPr>
            <a:spLocks noGrp="1"/>
          </p:cNvSpPr>
          <p:nvPr>
            <p:ph type="sldImg"/>
          </p:nvPr>
        </p:nvSpPr>
        <p:spPr>
          <a:xfrm>
            <a:off x="985680" y="741240"/>
            <a:ext cx="4886640" cy="3665520"/>
          </a:xfrm>
          <a:prstGeom prst="rect">
            <a:avLst/>
          </a:prstGeom>
          <a:ln w="0">
            <a:noFill/>
          </a:ln>
        </p:spPr>
      </p:sp>
      <p:sp>
        <p:nvSpPr>
          <p:cNvPr id="6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1DFD50-940F-414B-BFF5-E4C196903BF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012CF-5AF6-4F98-8211-F3FDEB988BD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01" name="PlaceHolder 1"/>
          <p:cNvSpPr>
            <a:spLocks noGrp="1"/>
          </p:cNvSpPr>
          <p:nvPr>
            <p:ph type="sldImg"/>
          </p:nvPr>
        </p:nvSpPr>
        <p:spPr>
          <a:xfrm>
            <a:off x="985680" y="741240"/>
            <a:ext cx="4886640" cy="3665520"/>
          </a:xfrm>
          <a:prstGeom prst="rect">
            <a:avLst/>
          </a:prstGeom>
          <a:ln w="0">
            <a:noFill/>
          </a:ln>
        </p:spPr>
      </p:sp>
      <p:sp>
        <p:nvSpPr>
          <p:cNvPr id="6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B9A84-4EF7-4A44-9D32-E0191770E9E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B5FD38-63EA-4CA3-97BD-2920FC4EC36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05" name="PlaceHolder 1"/>
          <p:cNvSpPr>
            <a:spLocks noGrp="1"/>
          </p:cNvSpPr>
          <p:nvPr>
            <p:ph type="sldImg"/>
          </p:nvPr>
        </p:nvSpPr>
        <p:spPr>
          <a:xfrm>
            <a:off x="985680" y="741240"/>
            <a:ext cx="4886640" cy="3665520"/>
          </a:xfrm>
          <a:prstGeom prst="rect">
            <a:avLst/>
          </a:prstGeom>
          <a:ln w="0">
            <a:noFill/>
          </a:ln>
        </p:spPr>
      </p:sp>
      <p:sp>
        <p:nvSpPr>
          <p:cNvPr id="6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049C15-6AD2-4D06-9D7E-4D05004249A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52C25-AF97-4CAD-8B52-C352FBAD6F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09" name="PlaceHolder 1"/>
          <p:cNvSpPr>
            <a:spLocks noGrp="1"/>
          </p:cNvSpPr>
          <p:nvPr>
            <p:ph type="sldImg"/>
          </p:nvPr>
        </p:nvSpPr>
        <p:spPr>
          <a:xfrm>
            <a:off x="985680" y="741240"/>
            <a:ext cx="4886640" cy="3665520"/>
          </a:xfrm>
          <a:prstGeom prst="rect">
            <a:avLst/>
          </a:prstGeom>
          <a:ln w="0">
            <a:noFill/>
          </a:ln>
        </p:spPr>
      </p:sp>
      <p:sp>
        <p:nvSpPr>
          <p:cNvPr id="6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CCD74-92FC-473A-85DE-FF6B207D88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D0192-7837-4757-8607-DE550698335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13" name="PlaceHolder 1"/>
          <p:cNvSpPr>
            <a:spLocks noGrp="1"/>
          </p:cNvSpPr>
          <p:nvPr>
            <p:ph type="sldImg"/>
          </p:nvPr>
        </p:nvSpPr>
        <p:spPr>
          <a:xfrm>
            <a:off x="985680" y="741240"/>
            <a:ext cx="4886640" cy="3665520"/>
          </a:xfrm>
          <a:prstGeom prst="rect">
            <a:avLst/>
          </a:prstGeom>
          <a:ln w="0">
            <a:noFill/>
          </a:ln>
        </p:spPr>
      </p:sp>
      <p:sp>
        <p:nvSpPr>
          <p:cNvPr id="6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FCA77-4B14-4E55-8766-610368E62B7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FD13D-D863-40E6-BE8B-91F8CA0A8D6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17" name="PlaceHolder 1"/>
          <p:cNvSpPr>
            <a:spLocks noGrp="1"/>
          </p:cNvSpPr>
          <p:nvPr>
            <p:ph type="sldImg"/>
          </p:nvPr>
        </p:nvSpPr>
        <p:spPr>
          <a:xfrm>
            <a:off x="985680" y="741240"/>
            <a:ext cx="4886640" cy="3665520"/>
          </a:xfrm>
          <a:prstGeom prst="rect">
            <a:avLst/>
          </a:prstGeom>
          <a:ln w="0">
            <a:noFill/>
          </a:ln>
        </p:spPr>
      </p:sp>
      <p:sp>
        <p:nvSpPr>
          <p:cNvPr id="6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8D140-35A2-4117-A413-138F8654C0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D8DAB-EA4D-4A5A-A519-8406A28A80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21" name="PlaceHolder 1"/>
          <p:cNvSpPr>
            <a:spLocks noGrp="1"/>
          </p:cNvSpPr>
          <p:nvPr>
            <p:ph type="sldImg"/>
          </p:nvPr>
        </p:nvSpPr>
        <p:spPr>
          <a:xfrm>
            <a:off x="985680" y="741240"/>
            <a:ext cx="4886640" cy="3665520"/>
          </a:xfrm>
          <a:prstGeom prst="rect">
            <a:avLst/>
          </a:prstGeom>
          <a:ln w="0">
            <a:noFill/>
          </a:ln>
        </p:spPr>
      </p:sp>
      <p:sp>
        <p:nvSpPr>
          <p:cNvPr id="6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3E5FE-C96B-4415-8102-489D71F6829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FA15F4-65E7-46F1-BDD1-3512D76866C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3" name="PlaceHolder 1"/>
          <p:cNvSpPr>
            <a:spLocks noGrp="1"/>
          </p:cNvSpPr>
          <p:nvPr>
            <p:ph type="sldImg"/>
          </p:nvPr>
        </p:nvSpPr>
        <p:spPr>
          <a:xfrm>
            <a:off x="985680" y="741240"/>
            <a:ext cx="4886640" cy="3665520"/>
          </a:xfrm>
          <a:prstGeom prst="rect">
            <a:avLst/>
          </a:prstGeom>
          <a:ln w="0">
            <a:noFill/>
          </a:ln>
        </p:spPr>
      </p:sp>
      <p:sp>
        <p:nvSpPr>
          <p:cNvPr id="6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B1A2C-E527-47C6-A18F-22327B0386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BF000-6CD9-4ADD-B76C-C97082096AA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25" name="PlaceHolder 1"/>
          <p:cNvSpPr>
            <a:spLocks noGrp="1"/>
          </p:cNvSpPr>
          <p:nvPr>
            <p:ph type="sldImg"/>
          </p:nvPr>
        </p:nvSpPr>
        <p:spPr>
          <a:xfrm>
            <a:off x="985680" y="741240"/>
            <a:ext cx="4886640" cy="3665520"/>
          </a:xfrm>
          <a:prstGeom prst="rect">
            <a:avLst/>
          </a:prstGeom>
          <a:ln w="0">
            <a:noFill/>
          </a:ln>
        </p:spPr>
      </p:sp>
      <p:sp>
        <p:nvSpPr>
          <p:cNvPr id="6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8F48C-CE91-4C50-9D0E-B5CA044DEFA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0743D-AC34-48F4-AD72-DF5801DD417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29" name="PlaceHolder 1"/>
          <p:cNvSpPr>
            <a:spLocks noGrp="1"/>
          </p:cNvSpPr>
          <p:nvPr>
            <p:ph type="sldImg"/>
          </p:nvPr>
        </p:nvSpPr>
        <p:spPr>
          <a:xfrm>
            <a:off x="985680" y="741240"/>
            <a:ext cx="4886640" cy="3665520"/>
          </a:xfrm>
          <a:prstGeom prst="rect">
            <a:avLst/>
          </a:prstGeom>
          <a:ln w="0">
            <a:noFill/>
          </a:ln>
        </p:spPr>
      </p:sp>
      <p:sp>
        <p:nvSpPr>
          <p:cNvPr id="6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DFE65-8DCC-4FFE-B50E-0FC6A6E0CE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BA1EB-F2BD-4D8A-93C6-37C3D2B85B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33" name="PlaceHolder 1"/>
          <p:cNvSpPr>
            <a:spLocks noGrp="1"/>
          </p:cNvSpPr>
          <p:nvPr>
            <p:ph type="sldImg"/>
          </p:nvPr>
        </p:nvSpPr>
        <p:spPr>
          <a:xfrm>
            <a:off x="985680" y="741240"/>
            <a:ext cx="4886640" cy="3665520"/>
          </a:xfrm>
          <a:prstGeom prst="rect">
            <a:avLst/>
          </a:prstGeom>
          <a:ln w="0">
            <a:noFill/>
          </a:ln>
        </p:spPr>
      </p:sp>
      <p:sp>
        <p:nvSpPr>
          <p:cNvPr id="6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545DE-8302-4BB1-9568-B998273C2C5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57BB1-EC14-4239-ADDF-B908F279EB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37" name="PlaceHolder 1"/>
          <p:cNvSpPr>
            <a:spLocks noGrp="1"/>
          </p:cNvSpPr>
          <p:nvPr>
            <p:ph type="sldImg"/>
          </p:nvPr>
        </p:nvSpPr>
        <p:spPr>
          <a:xfrm>
            <a:off x="985680" y="741240"/>
            <a:ext cx="4886640" cy="3665520"/>
          </a:xfrm>
          <a:prstGeom prst="rect">
            <a:avLst/>
          </a:prstGeom>
          <a:ln w="0">
            <a:noFill/>
          </a:ln>
        </p:spPr>
      </p:sp>
      <p:sp>
        <p:nvSpPr>
          <p:cNvPr id="6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0A21B-BF70-4AF8-8595-B6A9FC5839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0F741-E7DC-422E-AD22-F727A15B72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41" name="PlaceHolder 1"/>
          <p:cNvSpPr>
            <a:spLocks noGrp="1"/>
          </p:cNvSpPr>
          <p:nvPr>
            <p:ph type="sldImg"/>
          </p:nvPr>
        </p:nvSpPr>
        <p:spPr>
          <a:xfrm>
            <a:off x="985680" y="741240"/>
            <a:ext cx="4886640" cy="3665520"/>
          </a:xfrm>
          <a:prstGeom prst="rect">
            <a:avLst/>
          </a:prstGeom>
          <a:ln w="0">
            <a:noFill/>
          </a:ln>
        </p:spPr>
      </p:sp>
      <p:sp>
        <p:nvSpPr>
          <p:cNvPr id="6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56AA0-3485-4649-8D44-7F5E91DDC10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697C3-767E-42B2-988B-F91BB1FFBD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45" name="PlaceHolder 1"/>
          <p:cNvSpPr>
            <a:spLocks noGrp="1"/>
          </p:cNvSpPr>
          <p:nvPr>
            <p:ph type="sldImg"/>
          </p:nvPr>
        </p:nvSpPr>
        <p:spPr>
          <a:xfrm>
            <a:off x="985680" y="741240"/>
            <a:ext cx="4886640" cy="3665520"/>
          </a:xfrm>
          <a:prstGeom prst="rect">
            <a:avLst/>
          </a:prstGeom>
          <a:ln w="0">
            <a:noFill/>
          </a:ln>
        </p:spPr>
      </p:sp>
      <p:sp>
        <p:nvSpPr>
          <p:cNvPr id="6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958ED-7CC9-4651-8B8F-E87BB8FDCA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9A557-13E5-4AA8-A238-33627F8A90A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49" name="PlaceHolder 1"/>
          <p:cNvSpPr>
            <a:spLocks noGrp="1"/>
          </p:cNvSpPr>
          <p:nvPr>
            <p:ph type="sldImg"/>
          </p:nvPr>
        </p:nvSpPr>
        <p:spPr>
          <a:xfrm>
            <a:off x="985680" y="741240"/>
            <a:ext cx="4886640" cy="3665520"/>
          </a:xfrm>
          <a:prstGeom prst="rect">
            <a:avLst/>
          </a:prstGeom>
          <a:ln w="0">
            <a:noFill/>
          </a:ln>
        </p:spPr>
      </p:sp>
      <p:sp>
        <p:nvSpPr>
          <p:cNvPr id="6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F6C30-4916-4110-B28F-CEB696513E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DAEFF-D9F9-4453-A986-F22D569B48E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53" name="PlaceHolder 1"/>
          <p:cNvSpPr>
            <a:spLocks noGrp="1"/>
          </p:cNvSpPr>
          <p:nvPr>
            <p:ph type="sldImg"/>
          </p:nvPr>
        </p:nvSpPr>
        <p:spPr>
          <a:xfrm>
            <a:off x="985680" y="741240"/>
            <a:ext cx="4886640" cy="3665520"/>
          </a:xfrm>
          <a:prstGeom prst="rect">
            <a:avLst/>
          </a:prstGeom>
          <a:ln w="0">
            <a:noFill/>
          </a:ln>
        </p:spPr>
      </p:sp>
      <p:sp>
        <p:nvSpPr>
          <p:cNvPr id="6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536DB-7887-4CC0-BDA6-22D0030659F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F1679-0D56-42C1-A9F2-9D0F9DB025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57" name="PlaceHolder 1"/>
          <p:cNvSpPr>
            <a:spLocks noGrp="1"/>
          </p:cNvSpPr>
          <p:nvPr>
            <p:ph type="sldImg"/>
          </p:nvPr>
        </p:nvSpPr>
        <p:spPr>
          <a:xfrm>
            <a:off x="985680" y="741240"/>
            <a:ext cx="4886640" cy="3665520"/>
          </a:xfrm>
          <a:prstGeom prst="rect">
            <a:avLst/>
          </a:prstGeom>
          <a:ln w="0">
            <a:noFill/>
          </a:ln>
        </p:spPr>
      </p:sp>
      <p:sp>
        <p:nvSpPr>
          <p:cNvPr id="6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AA939-8182-47B2-B13F-7BE62CF558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18A41-31A3-4BF0-9F30-B611081FAB3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61" name="PlaceHolder 1"/>
          <p:cNvSpPr>
            <a:spLocks noGrp="1"/>
          </p:cNvSpPr>
          <p:nvPr>
            <p:ph type="sldImg"/>
          </p:nvPr>
        </p:nvSpPr>
        <p:spPr>
          <a:xfrm>
            <a:off x="985680" y="741240"/>
            <a:ext cx="4886640" cy="3665520"/>
          </a:xfrm>
          <a:prstGeom prst="rect">
            <a:avLst/>
          </a:prstGeom>
          <a:ln w="0">
            <a:noFill/>
          </a:ln>
        </p:spPr>
      </p:sp>
      <p:sp>
        <p:nvSpPr>
          <p:cNvPr id="6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6DFED-D1B7-4DC7-8D09-6E0B1BCC9D1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664AA-D731-4DEC-9004-B58B859CEB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7" name="PlaceHolder 1"/>
          <p:cNvSpPr>
            <a:spLocks noGrp="1"/>
          </p:cNvSpPr>
          <p:nvPr>
            <p:ph type="sldImg"/>
          </p:nvPr>
        </p:nvSpPr>
        <p:spPr>
          <a:xfrm>
            <a:off x="985680" y="741240"/>
            <a:ext cx="4886640" cy="3665520"/>
          </a:xfrm>
          <a:prstGeom prst="rect">
            <a:avLst/>
          </a:prstGeom>
          <a:ln w="0">
            <a:noFill/>
          </a:ln>
        </p:spPr>
      </p:sp>
      <p:sp>
        <p:nvSpPr>
          <p:cNvPr id="6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61F99-190F-4043-88EA-50BDB0F30A8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41034-506E-47F8-AFB9-3DE6A82275A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65" name="PlaceHolder 1"/>
          <p:cNvSpPr>
            <a:spLocks noGrp="1"/>
          </p:cNvSpPr>
          <p:nvPr>
            <p:ph type="sldImg"/>
          </p:nvPr>
        </p:nvSpPr>
        <p:spPr>
          <a:xfrm>
            <a:off x="985680" y="741240"/>
            <a:ext cx="4886640" cy="3665520"/>
          </a:xfrm>
          <a:prstGeom prst="rect">
            <a:avLst/>
          </a:prstGeom>
          <a:ln w="0">
            <a:noFill/>
          </a:ln>
        </p:spPr>
      </p:sp>
      <p:sp>
        <p:nvSpPr>
          <p:cNvPr id="6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BA6B2-6939-43F4-8062-397D800412F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D4750-4CB0-4BBA-A787-B72F230319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69" name="PlaceHolder 1"/>
          <p:cNvSpPr>
            <a:spLocks noGrp="1"/>
          </p:cNvSpPr>
          <p:nvPr>
            <p:ph type="sldImg"/>
          </p:nvPr>
        </p:nvSpPr>
        <p:spPr>
          <a:xfrm>
            <a:off x="985680" y="741240"/>
            <a:ext cx="4886640" cy="3665520"/>
          </a:xfrm>
          <a:prstGeom prst="rect">
            <a:avLst/>
          </a:prstGeom>
          <a:ln w="0">
            <a:noFill/>
          </a:ln>
        </p:spPr>
      </p:sp>
      <p:sp>
        <p:nvSpPr>
          <p:cNvPr id="6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095F6-314A-461B-81AC-6D4EF82689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847CDF-BE18-4FA0-9AAE-008E586A851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73" name="PlaceHolder 1"/>
          <p:cNvSpPr>
            <a:spLocks noGrp="1"/>
          </p:cNvSpPr>
          <p:nvPr>
            <p:ph type="sldImg"/>
          </p:nvPr>
        </p:nvSpPr>
        <p:spPr>
          <a:xfrm>
            <a:off x="985680" y="741240"/>
            <a:ext cx="4886640" cy="3665520"/>
          </a:xfrm>
          <a:prstGeom prst="rect">
            <a:avLst/>
          </a:prstGeom>
          <a:ln w="0">
            <a:noFill/>
          </a:ln>
        </p:spPr>
      </p:sp>
      <p:sp>
        <p:nvSpPr>
          <p:cNvPr id="6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F0F74-5132-4BAB-9C4E-88F2CBC1CF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1C08C-2063-40CC-82DA-5F308A7549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77" name="PlaceHolder 1"/>
          <p:cNvSpPr>
            <a:spLocks noGrp="1"/>
          </p:cNvSpPr>
          <p:nvPr>
            <p:ph type="sldImg"/>
          </p:nvPr>
        </p:nvSpPr>
        <p:spPr>
          <a:xfrm>
            <a:off x="985680" y="741240"/>
            <a:ext cx="4886640" cy="3665520"/>
          </a:xfrm>
          <a:prstGeom prst="rect">
            <a:avLst/>
          </a:prstGeom>
          <a:ln w="0">
            <a:noFill/>
          </a:ln>
        </p:spPr>
      </p:sp>
      <p:sp>
        <p:nvSpPr>
          <p:cNvPr id="6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0C136-832D-4F86-A3D9-6F080809FFA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B1EFF-B489-44D7-8A71-A4835AE18F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81" name="PlaceHolder 1"/>
          <p:cNvSpPr>
            <a:spLocks noGrp="1"/>
          </p:cNvSpPr>
          <p:nvPr>
            <p:ph type="sldImg"/>
          </p:nvPr>
        </p:nvSpPr>
        <p:spPr>
          <a:xfrm>
            <a:off x="985680" y="741240"/>
            <a:ext cx="4886640" cy="3665520"/>
          </a:xfrm>
          <a:prstGeom prst="rect">
            <a:avLst/>
          </a:prstGeom>
          <a:ln w="0">
            <a:noFill/>
          </a:ln>
        </p:spPr>
      </p:sp>
      <p:sp>
        <p:nvSpPr>
          <p:cNvPr id="6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2919F-5602-45A4-A065-FF622B2C89A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BC46F-ED6C-447D-8071-4A0EEFE2267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85" name="PlaceHolder 1"/>
          <p:cNvSpPr>
            <a:spLocks noGrp="1"/>
          </p:cNvSpPr>
          <p:nvPr>
            <p:ph type="sldImg"/>
          </p:nvPr>
        </p:nvSpPr>
        <p:spPr>
          <a:xfrm>
            <a:off x="985680" y="741240"/>
            <a:ext cx="4886640" cy="3665520"/>
          </a:xfrm>
          <a:prstGeom prst="rect">
            <a:avLst/>
          </a:prstGeom>
          <a:ln w="0">
            <a:noFill/>
          </a:ln>
        </p:spPr>
      </p:sp>
      <p:sp>
        <p:nvSpPr>
          <p:cNvPr id="6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155C1-6497-4C2C-BE8A-2E2BE15F151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C95A3-97AC-4D4C-A17F-DEDC82F11F5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89" name="PlaceHolder 1"/>
          <p:cNvSpPr>
            <a:spLocks noGrp="1"/>
          </p:cNvSpPr>
          <p:nvPr>
            <p:ph type="sldImg"/>
          </p:nvPr>
        </p:nvSpPr>
        <p:spPr>
          <a:xfrm>
            <a:off x="985680" y="741240"/>
            <a:ext cx="4886640" cy="3665520"/>
          </a:xfrm>
          <a:prstGeom prst="rect">
            <a:avLst/>
          </a:prstGeom>
          <a:ln w="0">
            <a:noFill/>
          </a:ln>
        </p:spPr>
      </p:sp>
      <p:sp>
        <p:nvSpPr>
          <p:cNvPr id="6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388DB-05D3-46D8-8707-25AE637458F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006AA-D9C7-42F0-871F-DBD897BB04D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93" name="PlaceHolder 1"/>
          <p:cNvSpPr>
            <a:spLocks noGrp="1"/>
          </p:cNvSpPr>
          <p:nvPr>
            <p:ph type="sldImg"/>
          </p:nvPr>
        </p:nvSpPr>
        <p:spPr>
          <a:xfrm>
            <a:off x="985680" y="741240"/>
            <a:ext cx="4886640" cy="3665520"/>
          </a:xfrm>
          <a:prstGeom prst="rect">
            <a:avLst/>
          </a:prstGeom>
          <a:ln w="0">
            <a:noFill/>
          </a:ln>
        </p:spPr>
      </p:sp>
      <p:sp>
        <p:nvSpPr>
          <p:cNvPr id="69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1D2CE6-4110-4E98-80C1-4B5583E3D6B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FF448-860D-4AAF-9656-053023F093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97" name="PlaceHolder 1"/>
          <p:cNvSpPr>
            <a:spLocks noGrp="1"/>
          </p:cNvSpPr>
          <p:nvPr>
            <p:ph type="sldImg"/>
          </p:nvPr>
        </p:nvSpPr>
        <p:spPr>
          <a:xfrm>
            <a:off x="985680" y="741240"/>
            <a:ext cx="4886640" cy="3665520"/>
          </a:xfrm>
          <a:prstGeom prst="rect">
            <a:avLst/>
          </a:prstGeom>
          <a:ln w="0">
            <a:noFill/>
          </a:ln>
        </p:spPr>
      </p:sp>
      <p:sp>
        <p:nvSpPr>
          <p:cNvPr id="6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A4A5A-3F7C-4D6F-8A1A-2C33361D26E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7DB80-DE84-42A9-9295-51CD00E0DA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01" name="PlaceHolder 1"/>
          <p:cNvSpPr>
            <a:spLocks noGrp="1"/>
          </p:cNvSpPr>
          <p:nvPr>
            <p:ph type="sldImg"/>
          </p:nvPr>
        </p:nvSpPr>
        <p:spPr>
          <a:xfrm>
            <a:off x="985680" y="741240"/>
            <a:ext cx="4886640" cy="3665520"/>
          </a:xfrm>
          <a:prstGeom prst="rect">
            <a:avLst/>
          </a:prstGeom>
          <a:ln w="0">
            <a:noFill/>
          </a:ln>
        </p:spPr>
      </p:sp>
      <p:sp>
        <p:nvSpPr>
          <p:cNvPr id="7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54F45-7DDA-4895-A1DC-AEA339AC2B5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8600C-E07E-481D-BD54-40B719B1433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1" name="PlaceHolder 1"/>
          <p:cNvSpPr>
            <a:spLocks noGrp="1"/>
          </p:cNvSpPr>
          <p:nvPr>
            <p:ph type="sldImg"/>
          </p:nvPr>
        </p:nvSpPr>
        <p:spPr>
          <a:xfrm>
            <a:off x="985680" y="741240"/>
            <a:ext cx="4886640" cy="3665520"/>
          </a:xfrm>
          <a:prstGeom prst="rect">
            <a:avLst/>
          </a:prstGeom>
          <a:ln w="0">
            <a:noFill/>
          </a:ln>
        </p:spPr>
      </p:sp>
      <p:sp>
        <p:nvSpPr>
          <p:cNvPr id="6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F027B-8E40-471C-BCD5-D2010F732A9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1F5AF-D59C-456A-A5D5-9A60DAA772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05" name="PlaceHolder 1"/>
          <p:cNvSpPr>
            <a:spLocks noGrp="1"/>
          </p:cNvSpPr>
          <p:nvPr>
            <p:ph type="sldImg"/>
          </p:nvPr>
        </p:nvSpPr>
        <p:spPr>
          <a:xfrm>
            <a:off x="985680" y="741240"/>
            <a:ext cx="4886640" cy="3665520"/>
          </a:xfrm>
          <a:prstGeom prst="rect">
            <a:avLst/>
          </a:prstGeom>
          <a:ln w="0">
            <a:noFill/>
          </a:ln>
        </p:spPr>
      </p:sp>
      <p:sp>
        <p:nvSpPr>
          <p:cNvPr id="70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9BF03F-24F0-46CD-A3F1-13E909ACB94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4E60B-57A5-4EED-A3F8-FB677EF1914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09" name="PlaceHolder 1"/>
          <p:cNvSpPr>
            <a:spLocks noGrp="1"/>
          </p:cNvSpPr>
          <p:nvPr>
            <p:ph type="sldImg"/>
          </p:nvPr>
        </p:nvSpPr>
        <p:spPr>
          <a:xfrm>
            <a:off x="985680" y="741240"/>
            <a:ext cx="4886640" cy="3665520"/>
          </a:xfrm>
          <a:prstGeom prst="rect">
            <a:avLst/>
          </a:prstGeom>
          <a:ln w="0">
            <a:noFill/>
          </a:ln>
        </p:spPr>
      </p:sp>
      <p:sp>
        <p:nvSpPr>
          <p:cNvPr id="7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AF102-8140-4C55-8FEF-80458F33331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AD685-4D12-4F5B-9EF2-7368AB38AFB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13" name="PlaceHolder 1"/>
          <p:cNvSpPr>
            <a:spLocks noGrp="1"/>
          </p:cNvSpPr>
          <p:nvPr>
            <p:ph type="sldImg"/>
          </p:nvPr>
        </p:nvSpPr>
        <p:spPr>
          <a:xfrm>
            <a:off x="985680" y="741240"/>
            <a:ext cx="4886640" cy="3665520"/>
          </a:xfrm>
          <a:prstGeom prst="rect">
            <a:avLst/>
          </a:prstGeom>
          <a:ln w="0">
            <a:noFill/>
          </a:ln>
        </p:spPr>
      </p:sp>
      <p:sp>
        <p:nvSpPr>
          <p:cNvPr id="70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6AD1B-0809-4C31-B262-A785959DBE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4A9D6-E9A1-4C04-98AE-6F6B8F7DE4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17" name="PlaceHolder 1"/>
          <p:cNvSpPr>
            <a:spLocks noGrp="1"/>
          </p:cNvSpPr>
          <p:nvPr>
            <p:ph type="sldImg"/>
          </p:nvPr>
        </p:nvSpPr>
        <p:spPr>
          <a:xfrm>
            <a:off x="985680" y="741240"/>
            <a:ext cx="4886640" cy="3665520"/>
          </a:xfrm>
          <a:prstGeom prst="rect">
            <a:avLst/>
          </a:prstGeom>
          <a:ln w="0">
            <a:noFill/>
          </a:ln>
        </p:spPr>
      </p:sp>
      <p:sp>
        <p:nvSpPr>
          <p:cNvPr id="70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F12DF-3BFB-42FF-AE5D-050FE19F077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434F60-9380-4920-9E21-E1544AD57B1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1" name="PlaceHolder 1"/>
          <p:cNvSpPr>
            <a:spLocks noGrp="1"/>
          </p:cNvSpPr>
          <p:nvPr>
            <p:ph type="sldImg"/>
          </p:nvPr>
        </p:nvSpPr>
        <p:spPr>
          <a:xfrm>
            <a:off x="985680" y="741240"/>
            <a:ext cx="4886640" cy="3665520"/>
          </a:xfrm>
          <a:prstGeom prst="rect">
            <a:avLst/>
          </a:prstGeom>
          <a:ln w="0">
            <a:noFill/>
          </a:ln>
        </p:spPr>
      </p:sp>
      <p:sp>
        <p:nvSpPr>
          <p:cNvPr id="70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4C26D-C68C-45DB-933E-1F9B45DDB9A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20075-FFAD-49FF-8B3E-8A5B8C7E2F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5" name="PlaceHolder 1"/>
          <p:cNvSpPr>
            <a:spLocks noGrp="1"/>
          </p:cNvSpPr>
          <p:nvPr>
            <p:ph type="sldImg"/>
          </p:nvPr>
        </p:nvSpPr>
        <p:spPr>
          <a:xfrm>
            <a:off x="985680" y="741240"/>
            <a:ext cx="4886640" cy="3665520"/>
          </a:xfrm>
          <a:prstGeom prst="rect">
            <a:avLst/>
          </a:prstGeom>
          <a:ln w="0">
            <a:noFill/>
          </a:ln>
        </p:spPr>
      </p:sp>
      <p:sp>
        <p:nvSpPr>
          <p:cNvPr id="70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5C8BB-5327-410B-870B-73B79EC1D6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A25B7-F711-461A-9DEC-DB2E77C6A5D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9" name="PlaceHolder 1"/>
          <p:cNvSpPr>
            <a:spLocks noGrp="1"/>
          </p:cNvSpPr>
          <p:nvPr>
            <p:ph type="sldImg"/>
          </p:nvPr>
        </p:nvSpPr>
        <p:spPr>
          <a:xfrm>
            <a:off x="985680" y="741240"/>
            <a:ext cx="4886640" cy="3665520"/>
          </a:xfrm>
          <a:prstGeom prst="rect">
            <a:avLst/>
          </a:prstGeom>
          <a:ln w="0">
            <a:noFill/>
          </a:ln>
        </p:spPr>
      </p:sp>
      <p:sp>
        <p:nvSpPr>
          <p:cNvPr id="70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217A5-9BEB-49A0-95D3-C27769F22DD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603F8-BB6C-47A4-BEC2-A828E0BFC7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33" name="PlaceHolder 1"/>
          <p:cNvSpPr>
            <a:spLocks noGrp="1"/>
          </p:cNvSpPr>
          <p:nvPr>
            <p:ph type="sldImg"/>
          </p:nvPr>
        </p:nvSpPr>
        <p:spPr>
          <a:xfrm>
            <a:off x="985680" y="741240"/>
            <a:ext cx="4886640" cy="3665520"/>
          </a:xfrm>
          <a:prstGeom prst="rect">
            <a:avLst/>
          </a:prstGeom>
          <a:ln w="0">
            <a:noFill/>
          </a:ln>
        </p:spPr>
      </p:sp>
      <p:sp>
        <p:nvSpPr>
          <p:cNvPr id="70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1EA35-6511-49C7-9BC8-37B8F780EDC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E8F3D-4E0E-4ECD-B141-083E4C53D0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37" name="PlaceHolder 1"/>
          <p:cNvSpPr>
            <a:spLocks noGrp="1"/>
          </p:cNvSpPr>
          <p:nvPr>
            <p:ph type="sldImg"/>
          </p:nvPr>
        </p:nvSpPr>
        <p:spPr>
          <a:xfrm>
            <a:off x="985680" y="741240"/>
            <a:ext cx="4886640" cy="3665520"/>
          </a:xfrm>
          <a:prstGeom prst="rect">
            <a:avLst/>
          </a:prstGeom>
          <a:ln w="0">
            <a:noFill/>
          </a:ln>
        </p:spPr>
      </p:sp>
      <p:sp>
        <p:nvSpPr>
          <p:cNvPr id="70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30211-7777-4F8C-9FB2-AA4A148D1CA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2C2480-37D3-4238-A0B4-A02023C64E5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1" name="PlaceHolder 1"/>
          <p:cNvSpPr>
            <a:spLocks noGrp="1"/>
          </p:cNvSpPr>
          <p:nvPr>
            <p:ph type="sldImg"/>
          </p:nvPr>
        </p:nvSpPr>
        <p:spPr>
          <a:xfrm>
            <a:off x="985680" y="741240"/>
            <a:ext cx="4886640" cy="3665520"/>
          </a:xfrm>
          <a:prstGeom prst="rect">
            <a:avLst/>
          </a:prstGeom>
          <a:ln w="0">
            <a:noFill/>
          </a:ln>
        </p:spPr>
      </p:sp>
      <p:sp>
        <p:nvSpPr>
          <p:cNvPr id="70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B3C0F-E490-4DA7-9529-2367E0949C8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7171B-0901-4C9C-98C4-A3F8E13D1A6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5" name="PlaceHolder 1"/>
          <p:cNvSpPr>
            <a:spLocks noGrp="1"/>
          </p:cNvSpPr>
          <p:nvPr>
            <p:ph type="sldImg"/>
          </p:nvPr>
        </p:nvSpPr>
        <p:spPr>
          <a:xfrm>
            <a:off x="985680" y="741240"/>
            <a:ext cx="4886640" cy="3665520"/>
          </a:xfrm>
          <a:prstGeom prst="rect">
            <a:avLst/>
          </a:prstGeom>
          <a:ln w="0">
            <a:noFill/>
          </a:ln>
        </p:spPr>
      </p:sp>
      <p:sp>
        <p:nvSpPr>
          <p:cNvPr id="6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3354D-699E-43D8-9FC2-2CF06D8BD49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21CE6-1741-489F-A866-AC211294CF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5" name="PlaceHolder 1"/>
          <p:cNvSpPr>
            <a:spLocks noGrp="1"/>
          </p:cNvSpPr>
          <p:nvPr>
            <p:ph type="sldImg"/>
          </p:nvPr>
        </p:nvSpPr>
        <p:spPr>
          <a:xfrm>
            <a:off x="985680" y="741240"/>
            <a:ext cx="4886640" cy="3665520"/>
          </a:xfrm>
          <a:prstGeom prst="rect">
            <a:avLst/>
          </a:prstGeom>
          <a:ln w="0">
            <a:noFill/>
          </a:ln>
        </p:spPr>
      </p:sp>
      <p:sp>
        <p:nvSpPr>
          <p:cNvPr id="70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F4840-18C3-4AF7-906F-FB89276FA1F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8" name="PlaceHolder 1"/>
          <p:cNvSpPr>
            <a:spLocks noGrp="1"/>
          </p:cNvSpPr>
          <p:nvPr>
            <p:ph type="sldImg"/>
          </p:nvPr>
        </p:nvSpPr>
        <p:spPr>
          <a:xfrm>
            <a:off x="985680" y="733320"/>
            <a:ext cx="4886640" cy="3665520"/>
          </a:xfrm>
          <a:prstGeom prst="rect">
            <a:avLst/>
          </a:prstGeom>
          <a:ln w="0">
            <a:noFill/>
          </a:ln>
        </p:spPr>
      </p:sp>
      <p:sp>
        <p:nvSpPr>
          <p:cNvPr id="7049"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17438-AACA-4D3C-A9BA-BC4E3F2F74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BF7B2-44AC-448E-B6AA-FC5D44DFA1A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9" name="PlaceHolder 1"/>
          <p:cNvSpPr>
            <a:spLocks noGrp="1"/>
          </p:cNvSpPr>
          <p:nvPr>
            <p:ph type="sldImg"/>
          </p:nvPr>
        </p:nvSpPr>
        <p:spPr>
          <a:xfrm>
            <a:off x="985680" y="741240"/>
            <a:ext cx="4886640" cy="3665520"/>
          </a:xfrm>
          <a:prstGeom prst="rect">
            <a:avLst/>
          </a:prstGeom>
          <a:ln w="0">
            <a:noFill/>
          </a:ln>
        </p:spPr>
      </p:sp>
      <p:sp>
        <p:nvSpPr>
          <p:cNvPr id="6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6E285-C541-4B04-906B-D15898B946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E2651-70BA-4A09-9A07-FF8F572245F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73" name="PlaceHolder 1"/>
          <p:cNvSpPr>
            <a:spLocks noGrp="1"/>
          </p:cNvSpPr>
          <p:nvPr>
            <p:ph type="sldImg"/>
          </p:nvPr>
        </p:nvSpPr>
        <p:spPr>
          <a:xfrm>
            <a:off x="985680" y="741240"/>
            <a:ext cx="4886640" cy="3665520"/>
          </a:xfrm>
          <a:prstGeom prst="rect">
            <a:avLst/>
          </a:prstGeom>
          <a:ln w="0">
            <a:noFill/>
          </a:ln>
        </p:spPr>
      </p:sp>
      <p:sp>
        <p:nvSpPr>
          <p:cNvPr id="6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9914D-1C36-4A39-90C3-88F10A9FE06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02F65-49DD-4E2D-875D-55E68A1C196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77" name="PlaceHolder 1"/>
          <p:cNvSpPr>
            <a:spLocks noGrp="1"/>
          </p:cNvSpPr>
          <p:nvPr>
            <p:ph type="sldImg"/>
          </p:nvPr>
        </p:nvSpPr>
        <p:spPr>
          <a:xfrm>
            <a:off x="985680" y="741240"/>
            <a:ext cx="4886640" cy="3665520"/>
          </a:xfrm>
          <a:prstGeom prst="rect">
            <a:avLst/>
          </a:prstGeom>
          <a:ln w="0">
            <a:noFill/>
          </a:ln>
        </p:spPr>
      </p:sp>
      <p:sp>
        <p:nvSpPr>
          <p:cNvPr id="6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2C9DA-60CE-4A82-A536-1A2E9E942F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D8458-52E0-486D-BAF0-E0D39F6E6F2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81" name="PlaceHolder 1"/>
          <p:cNvSpPr>
            <a:spLocks noGrp="1"/>
          </p:cNvSpPr>
          <p:nvPr>
            <p:ph type="sldImg"/>
          </p:nvPr>
        </p:nvSpPr>
        <p:spPr>
          <a:xfrm>
            <a:off x="985680" y="741240"/>
            <a:ext cx="4886640" cy="3665520"/>
          </a:xfrm>
          <a:prstGeom prst="rect">
            <a:avLst/>
          </a:prstGeom>
          <a:ln w="0">
            <a:noFill/>
          </a:ln>
        </p:spPr>
      </p:sp>
      <p:sp>
        <p:nvSpPr>
          <p:cNvPr id="6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2AB1E-17CF-40C1-9D51-F37103AF2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12CB4A9-ABCC-4FF5-911D-1F251393B28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E9BB2F6-02A0-4BEA-ABE7-55C5FAEFE2F2}"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E360CBFD-DAAD-411D-A447-474CDDBB93C3}"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45DE47EF-28B8-4E9A-979B-4BCCD22D1718}"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7354588B-0732-405B-9736-81249A511E35}"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34DD2AA-C28F-40F2-ACE7-18020278831B}"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CC7A5A08-68B5-405C-A066-BC93803713E8}"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824ADAE5-9F41-4EAC-89C4-7B3E9B484765}"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834C455A-A402-41A1-8F50-7F8B65EFAC04}"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8B6CFBDF-733E-4B7C-9DD4-EBC8E9F437EA}"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249B162E-1C6D-4153-A42F-92EC68B471C6}"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DEF73C5F-BC35-4162-96D3-D23352ED70F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3F5137A-4A08-4CE5-AC87-D50801938F15}"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8AF6C7C6-1CD1-420A-970B-805DA010A52A}"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65C6659E-D737-4790-8544-961777F29AE2}"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3D863F89-79F3-48CB-8C3A-A510B11BFB15}"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120EF65C-170C-4A20-A5F9-74B61E117467}"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03001208-3F5B-4D2B-A65A-4F75433B064F}"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1AF10249-5A38-403D-B9C1-A4869653A234}"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C7069872-DBCA-45D0-9786-9BC005BBCB67}"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6914544C-7EE1-46D2-8255-4E9C2E6954A7}"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1FDB40D1-47F5-4CE7-BC9E-4C541F5A3941}"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1A4A46E2-9D97-4FCA-AEFE-28E2FA45D1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655821F-7234-44CF-A21C-0448A963C0D4}"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AB6389A0-7E7E-4240-80D3-89B6729DA34A}"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233EEC17-BF82-4767-BAE6-877CE8362D58}"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70FE0A8B-999F-4440-8A50-7B0EBD83C673}"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F28FC15A-20A7-476A-89D0-B68E6AB86EBD}"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25B332FA-21D2-4D78-AD68-9B29100D0A63}"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8250084F-2B88-4F31-B8DB-9D6BB68D7C06}"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AB59DEAB-F986-4493-8029-DC2B6AD0AEDA}"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6DA49232-6984-496D-A6E4-A30CAA0B3DEA}"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659A9C21-5410-4BCE-B8EA-4066987FD467}"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ABF6D8CC-1306-41A7-AA3A-1C16CAD4164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E4F1E18-B097-4F44-86E4-9EEF511E66E7}"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31908508-3EA3-4438-8FA7-C8CDEA128808}"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6D4DFD5A-6534-4F23-B5F4-DFEB4008097E}"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F692642C-B370-4BB4-A33E-A1FCFB56A755}"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44B6009E-5290-4BDE-99D2-BFFE4B456700}"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6302891F-FA4F-4837-BF0B-A4952043B1C8}"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239BA193-F9D2-4608-8A6B-DA9EB7D081C0}"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B22EC92C-F4EC-47B3-BCE5-5EB2F344AF95}"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F1135CD7-80B2-4C57-9A39-00C7CCBD39B4}"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75665482-3832-41DA-9B9E-AA444BC4F4D3}"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01DB4DD5-5FA8-47B4-B37A-DEA7A07C28B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80EC9F4-F20D-45D2-BC3D-94D463FC7106}"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92549BA2-CFEE-4CB3-A62C-1CBD4359B452}"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0456B214-6D0C-48BE-ABCD-B5F8C2DBA851}"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25A0462C-F959-43F0-948D-F2AAE37F1AED}"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5BE3DBC6-AA9E-4569-B97A-F3A857699B32}"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359091E7-D503-47C2-9360-100F9145CC73}"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0384F254-7BCE-41F8-935B-5E7664E70596}"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F75287E5-39DF-4290-8C01-531FECC39DCD}"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22529697-ABA2-48DD-BDAE-FE7E39D86527}"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4150617F-03F7-4C4F-B421-CDF510CF0755}"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52B41A3A-66BE-4971-8EE9-E5F2C1EDE69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7C70805-678A-4F8A-8C8C-6D4ACA8DCA91}"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DBFC95CB-B0F2-4067-8166-0093236DD961}"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93E9CF43-E967-4C2A-B20D-3D0DD0140E04}"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F469F66-9A81-40D5-BEC3-530E5A1286FC}"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34048460-F480-4EB8-97DE-319FC41C2E90}"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27866D22-9555-4D58-8F00-C0F6BBC837FD}"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F2F357CF-0331-495E-B33D-0927A77CF992}"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DFA19EFF-A48B-42A2-A16C-4E8DF3A18CF5}"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368D9A58-A8CF-46FF-8C5D-9B72A283DE5D}"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78DEA2D0-6FFF-4F76-8799-69B23C6F1AEE}"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3C8AFF2C-A4E2-44CC-B7D6-BF1FDC90956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3787EC8-AA9F-4CF7-915D-B3FBB94C0E50}"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AC44B64B-9F4D-42C9-AD1C-2A5D2B31810B}"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D32A01BA-FB94-46A1-AE56-63498915FB2D}"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41856D3B-D368-40B3-94B9-49F2ED56AB34}"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87D71D1-9D90-48B1-8F6E-FB76E3D511EF}"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BC3486F3-79C9-413E-B8A9-AA32774E5662}"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5B5229D7-4ADF-4E62-A340-9B9150868DEB}"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701E29C0-369F-4F23-B90F-66419226176D}"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C1649413-E8ED-4341-9657-12127496CA10}"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A7499744-A385-498B-9F52-1A9D8480A9A5}"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0C9442C9-DDBF-4B8F-8E6D-67734683BF9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E3BD70C-55D6-471D-8583-578F849E9E5E}"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864CD104-5769-4753-AA53-AA0B070DA3C8}"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A6F89687-2426-48BE-A31C-9C5D631313C5}"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487379D8-8D19-4CBD-B76F-650968513FBA}"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2D3DC5C7-0872-4E74-834A-03982BB15528}"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E0AF7479-EA03-47AE-94CA-C1FC9016FCC9}"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304D9483-3079-41DA-9B01-B7238997C3C7}"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A02F9649-7C0D-43F7-889C-6502DCF2B429}"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39594450-20DC-4D0D-B8F7-DE06F9F1BF54}"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2729FDBD-95DF-4C7F-A96E-DA674E0AE6C3}"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47538897-DCA8-4975-9705-6027B7C556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D5F86078-EFA3-42DD-B6DA-213E60FAA5EE}"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56837097-2A92-480F-8EAC-8F31B681534C}"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7B26F0A5-DC0D-442D-B063-529279AE038D}"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8D434A07-1DD1-43B4-8D7C-6ACDC50A8F8B}"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3961E201-D0C8-4A01-A36F-6FD1019E70D4}"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352D83AA-9A6A-4AB5-87B6-210120604098}"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F6C0868E-88E6-4E18-A555-BDC5A475D4E3}"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A2015B3D-79C1-49F5-A127-9C87365CE302}"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7644AE4D-AE60-456F-ADB6-9D720E10BA57}"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C77B3677-1138-4406-B41B-9B3C5603CB43}"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F5E4C334-2A6A-49B4-AE1D-57D9875D96D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8E4385D-CDEE-4CD5-8C22-34A2BC8F18FC}"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94921CEB-39C4-49A1-B403-ACA78D27C990}"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137F7E1D-B1CB-4B9E-842D-1334CC97E428}"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101FAAED-7867-435E-82D0-443D69BED049}"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D2084EAF-013B-4A15-9244-F3388DE50B88}"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C7101707-031C-4480-8E84-67658B79C63A}"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9BB09D76-40E9-4406-ACDF-E400582E0ED7}"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FED89734-5202-4385-B377-15E873DF78F2}"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E6B31C9D-445A-4138-B08C-FF1A2C6E8BF0}"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DFCB7B54-E70A-401F-8D44-FD339F73EA08}"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1A854E52-5239-4BF9-9ACA-1E3FC6956D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FBC4715-05A2-4D94-B42D-C36D105F5CA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E50E619-00CF-4172-9276-083E937D7EC1}"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86948D82-EFAE-4756-B7FE-5975935CF750}"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AB9A4E70-28EA-4E8E-B5DA-AFB0E008FABB}"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05BFCC09-B5F0-4D46-A42D-4121E2768656}"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C81DA43E-EB59-47AF-A42F-6ABBA0EFC71F}"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BE51038E-B233-4A5F-BC8E-008ADD1864AD}"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64C3C704-F27A-4E2D-A730-915EB6B84965}"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E21097CE-C6F0-4BA5-8A09-A2086466C3B7}"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BF47A733-4E3C-4808-8A38-8FDC466B8260}"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13D8350F-7D9C-40EB-8FA5-1C0168B046A5}"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427C78BE-D339-4AC3-9473-38447CDF01C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DE91E1C-9AFE-40B6-867E-6674E8EFC248}"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C30CDACD-9D66-498A-9D31-195450EDDE70}"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27DD4468-44CA-4801-891C-BEF8C1439A03}"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57850DD8-50D8-4BD4-BCF4-381D0E21ACA8}"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E2F8182C-4EAB-438A-99A5-ADE94BE0881B}"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BDFAC2CC-0892-4742-901D-30D832B3B84A}"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040F2439-3BCA-416E-A0EA-4E7BFA9F8734}"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FD2B9080-927F-4F4E-AD06-A58AD3CC5C56}"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09337DEC-0AC3-43D5-9792-81F3F7EE6923}"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886005D1-8069-4295-A4AE-A8C789B223B6}"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A157266C-62C4-44C4-AAAB-C680C3B0B73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F86FF19-401E-48B1-8804-7411527A1A63}"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8ED757B1-45F9-4F5E-ACBA-932E75A39233}"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11166C86-4884-40A1-95DF-FCE5F3B72F9D}"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9E25CE10-0AC8-48A0-873E-1DAE93EDD5AD}"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60FCA34F-BC7E-4D72-861F-F61E98D91BD3}"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34F49356-6CB2-4892-A877-64368A6F6828}"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7F1B3D6B-CFC0-4D22-A810-FCCC19D44416}"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B06A1B55-A92D-470D-9C2B-C8B4A6429238}"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103600DE-3BC8-4DE3-B612-AC41473DB74C}"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DBF397C8-2492-4799-8EBF-8D3A7825A9E9}"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4CD1A606-29D5-4CCF-A821-1075D870A0D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7CE71613-983C-4A72-AC97-9319BB4D17A3}"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310DA989-9C64-4528-B529-E9F8CCE1EB45}"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8D6778D1-559A-4432-8D7E-E1902ECA9EEF}"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FB88A410-BAFF-4F28-80D2-61ACBDF60950}"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7B06DC3F-DDE0-41D6-849E-3E1EBD3ACCA3}"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743CD689-2253-494D-9D9C-8D384019A310}"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E2D8AEB-E7AE-4989-845A-121F41E6B207}"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C59C16F8-8BE6-4EA5-BD33-9C062EF4B738}"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614A7DA-067E-41AD-8F86-EF9BF010BDCE}"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9602F644-48DA-4AB5-87A7-321D3D2479E5}"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BE41F836-CF9F-4A15-BAC9-1ADF8FB6151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1BC949F-1B0A-4602-81CB-93C5B6BBE88E}"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04930278-C2F9-4019-A512-1931CBB95585}"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87C0E197-A98C-4FB3-8BFD-B495B3D04AA2}"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E3E821BF-749D-4D51-8515-A368A1A508E8}"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B090D65B-EE8A-421B-AE8E-C865CAD64F32}"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43AB07F4-A707-4478-BD52-B8DE3108A0CE}"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7FD4059B-2AB9-4DF5-8A94-F8477D1C599C}"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29FD748F-AF6E-43CE-A235-79FAFB452081}"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53F63332-892B-444C-A95C-2790DC81678B}"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F6784107-D563-4441-BF17-45C2D8C793BC}"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42C2B36-B18F-46DF-B0EB-9DB7CC09AE2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927F840-17F5-448C-BDA8-D66901EDFA67}"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F4114CDE-407D-4E8E-8CAE-EDF3BC5B8B4D}"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A2778787-5081-411A-98FA-C5A030D9D03A}"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09F0EDBF-DB2A-4EE8-843F-3013563149C1}"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1384E5F1-DB4B-4137-B2B2-59657712A5CA}"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DA52D96F-A4D6-4261-A3DC-DCB34FD46DF9}"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85FEDF4E-139E-452C-A3CD-FB2A393E1756}"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CD91DEEE-7741-4AEE-95C5-64E84A46D646}"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4A382674-C683-4C3E-A823-0F5ECE3199A6}"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6CA6B71F-7AB2-4EAC-A864-987FAAB428BC}"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D9D17E09-D676-4589-BEA9-EFD243BCB13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41A9E42-F40C-4487-AEE8-6009BA2D1FF4}"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04F4D484-F71C-4641-98A1-4B000627180B}"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438F1C96-0239-4065-9D53-7FA9EAB44783}"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8765BEF1-9BC4-4303-AE16-1A52B91D6268}"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A2CEBDED-A45B-4D59-AD39-DD96B5F924CB}"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781280FD-7695-4B9F-B83A-C1DE7393006C}"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EAD196A2-5667-43AA-BB35-454B6DE5CBD0}"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7ABCBD6C-87FA-49FC-9DB5-2D542B7168DC}"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9FDD3287-4544-400E-984F-7B0E688F9314}"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8D7B18E6-E0E8-4E7A-A035-1373AB6EFD0A}"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E1FF9CA3-387D-4BEC-B5A8-04823262341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961AC93-877D-41CC-84F7-A73C9B5CCE20}"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71DCF47F-F8B0-48F7-A49E-017167A35373}"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DB298203-09D6-4F30-8466-B38D5784E397}"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1DBDFA16-FC51-4AED-B063-9A20E1614AC2}"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65E1EE84-AD71-484F-8861-1214655F64BB}"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C439399F-7943-4D2C-9201-2A8A76D5EB9E}"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F1C3F262-5AC4-4740-AA9E-8BF6F933098D}"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90C83976-E167-4C36-A150-1355A2708FC1}"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77687470-DB89-4B22-9BC5-543535B1F931}"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11CBEEDD-DF81-4B32-A053-E7ED472A919B}"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1C87CA0D-7A12-4522-9D96-7BB2F1AE133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7D9DC8D-02C9-4CAF-A382-9DCE72322647}"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BA56EB0F-4D75-49A1-84C3-797CA7393C82}"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6B1AB8D8-7704-4979-8808-DFC76FBB98A0}"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E022AA57-D986-4EF8-9561-DD8171084244}"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93E234B2-4EF0-4BEB-AAAC-13939A6797EE}"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51DD24BF-3400-44CE-A6B4-E618CCAF7D9D}"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35F29C68-909A-4CE4-B2AF-1B8AAAA3F8CB}"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818FF27C-3705-4B84-8589-B0A3610D0B92}"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9327B51A-B150-4ECA-8BA1-3D55809323A5}"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33261FBB-6912-4D70-97FA-594387A7FE0B}"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AF694DEC-30E8-467B-94E7-81A8D006B1A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DE318E4-FF23-41A2-B162-E59F21AF9D94}"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B6CE6D4D-8FDC-4F26-BE9B-A2E73FC5F5F3}"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03D2F6B8-B7EE-4E1C-8B93-646747012A74}"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34E6DB6E-DCFA-4562-AFE1-8644A6B696BF}"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02D6D91B-49B5-4E32-A82D-D36AA1DB96B0}"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5D9E5261-6CA7-4A42-954E-75717C7E83EB}"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3065A68-918F-4533-A516-3AAA460617AE}"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BC01602F-1CAE-4B97-91B6-C59EA5B0356B}"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1E0A4D16-B03F-46E6-A324-4AE37FD9B61F}"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C6815D7B-95FE-454F-88AE-0E764FFD5A7F}"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987F04AE-158C-4C34-BAFA-AD5EEB973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FC2B2A3-5AA6-4152-B374-3728904C99A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811CDCB-5DB0-437B-908B-1DC1D6BD7FC8}"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A3C98113-6240-4761-B613-0C870EE84FFD}"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0C389EF8-0421-4B9F-98F3-CB2851326EDC}"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10B8DAF3-B21B-4A09-A8DF-9FE7F72851BD}"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CC149C04-CBE3-45B3-ACB1-534EC5FC3D74}"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F0F447E6-2461-4DB5-A16D-19A85AAB0FAA}"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465B0C95-8AFC-4C80-8EED-A5EB4680329B}"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4ACA45DF-09E4-495A-B8D8-0052B336AF95}"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161ADECE-BE0E-45E3-AD8B-75CE7FC013A7}"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AC188645-260A-4FF4-9CE2-1899028FF613}"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BE9630E9-1B08-4840-8B5D-D2B907234C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166065C-3EEB-4501-B04C-E3BFD3C3349C}"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97E3E580-0151-46B4-A9A6-8D67D67214D5}"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B1DE12CF-3F58-4CDB-9B77-D17CB0124660}"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65FDD017-2207-4932-89CD-D12D9EB86C78}"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E3EEC67B-7A23-465C-BE47-3EF6187CD11F}"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72D8131C-623D-423C-AA45-7F287E1719BE}"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B590B896-D4FA-4F22-B611-12D352C2016B}"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D2EE0BED-53D5-492B-AD2F-23716F40C804}"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0DD72C1C-2AF8-4713-985B-D8DEAA72A87E}"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E183778B-632E-4B3A-8002-44CA67ED3704}"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9AC29382-A7D9-439F-949C-B2232CD137B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5FF72DB-A9AE-42C8-9AF0-71445D54CA3F}"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8608DAD5-7AA0-4F9F-883C-66AEA970B295}"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CFD26B6B-1E85-4198-B19A-23E55CA67402}"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14F1DF58-A480-4424-BC9B-824729C81269}"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2D0DDE14-33A5-4F5B-A27C-FDA75C402397}"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3CA486A4-2ED0-4ED3-8D51-524BA14473D9}"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6520A9A3-83EC-48A0-9A28-294D3563D648}"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CA7C1EBC-0714-4343-90BC-53437B7474BD}"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E5CD3A97-5FB8-4B51-8FB3-FD4440A0B026}"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4BF0E5D2-3407-4C9C-AFB9-252199A55453}"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077E72D5-4B23-4D0F-901D-AF418C9DF8E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DB75146-EEF1-4E6C-A433-218813F47549}"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223A413B-0782-4D5C-8F1C-06FAEA60D1C0}"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779640B6-2A19-45E4-9F00-B8AC205B8DF6}"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2A1ADBAD-29AA-4D66-932B-BA8458FE5536}"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DC49B3EE-586A-4204-8A5D-9EA70C45EF1B}"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CBB2B0B7-9ED9-4A23-9BC9-29782F7A25AE}"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B58222FD-21C1-4248-BE9E-ECF16D5B468E}"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99F7450B-9787-4AE2-B480-2FF098790042}"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E75EA918-ABAF-4C4E-800C-C083B905E681}"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708E88AD-54EF-4FD4-8860-98DE8AFA79F4}"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C8B075D0-3140-4E61-A478-99C5B9451E7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0F1E596-5CEC-464C-898D-8A76AE00E948}"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DF8736EA-D600-4A03-9351-C8F87647E3EA}"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0B043E4D-E47D-4B0A-88A3-452267025BE2}"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75114B3D-8838-407C-9166-EE377613F4FB}"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3C2F7E8B-693D-453E-B254-9795903D11D7}"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BB87C8D0-AA88-4B87-8D7E-66E54D84D5A3}"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36A5FD9A-0506-4E90-AE93-DA51B728C34F}"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7B654ACD-379B-45E1-97C7-F1DB517A0C70}"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27C923F0-F51B-40D6-8CD2-202D4B76D677}"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EA14DE54-5AE7-4579-A196-5E5FB1D9B914}"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E316A7D8-C21A-4C4B-8E85-A7196C009E3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6411BED7-B341-4076-8F1F-6013E7905457}"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B2447A7C-97B4-4316-B663-EF99A7F59A1C}"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F1E77BDA-FB1D-40F8-8B25-A53F25919611}"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B6FB9526-5BD5-467D-8078-64C72BA3D76B}"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AEF29250-3E0D-4D21-8763-55E1A221DC38}"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199063FF-642C-4BBD-92D8-EC4BB19A4D7D}"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346C2752-8291-42C8-9ABA-1FB9CFCE4608}"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6122447D-CDF7-435D-B78E-CA6FA11B8206}"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8101415C-17D9-4286-8995-75D4EBDDD7E8}"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BB270DB2-EC16-4379-8B1D-70B96AD8BEB0}"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0525A41E-A8D9-41C2-8C6A-C0E9F2BFC8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E65598A-5C85-490D-A7A6-D5E4D4D4DB5C}"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26D239D1-7221-414D-8781-73AC89F54D07}"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D9BE9B9F-F3B0-4D03-9ADE-84D1544CAF22}"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D12E91A2-F202-4C10-A663-88E11525151F}"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7E15F572-43C4-4047-BC74-A1DF870E6BDD}"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EBDF66F3-DAC8-4DB2-806E-44A22C75DB89}"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92ACC0A7-7B00-4A0D-85C3-C9C0F428EDCC}"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F9B4AB06-226C-4963-95F6-33B6D0870E11}"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25865F33-3163-4465-B3A3-5D4B505B45AD}"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803D975E-0648-45FE-BFB6-8F298540A843}"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D4315E98-F9AC-43AC-B755-6030B26C0AF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9E15044-B4CB-44A0-98A2-14BCBD4831C8}"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7D8C49E2-D003-4772-8381-747D2FC6AB6C}"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28E2E92A-53CB-4F1C-B470-768209A50D8B}"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397EA107-EBE6-4A7A-89CE-927B34754106}"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BC675786-587B-40D9-B871-50DAEB1B84E9}"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2E5046B8-1E09-448A-B78B-EC6B5CD01B9A}"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1644501E-F878-430A-B6A1-4F8A23E7F5B2}"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47B33061-A22C-4D87-B51B-68BB73005030}"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706031D9-F854-4B2C-893E-F1D107326845}"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25C2F4A8-7217-4588-AA4B-DF225E916525}"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900118DC-CADA-4E74-BAFA-A538A31E3ED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558E5BF-8CE5-4925-86A0-61AA495A6A10}"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EBA9BBB5-AF09-453A-B802-32CF7F7C46DC}"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FE5916DA-CB3A-49E3-B612-22462D2A030B}"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07A5926F-2002-4675-A813-7B5E3A4C5209}"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5D78C571-CB40-4BD8-A762-5D451607B7CE}"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78F5D800-ECC5-4D0C-A2CA-9CF64553EF63}"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D961C066-B874-4B50-ABBE-237BCC390051}"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227D1DD2-C6B5-4EC2-8F9B-722F89DF6300}"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8DF44827-4ED3-4E55-8EA9-6974B4FAF1AE}"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F745C200-B1BF-47F8-9B98-BABF0B9F6A74}"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9D70D37B-106B-4E46-A292-D03CBC41BFE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A8726FA-EB05-407E-A597-9030BEF8031D}"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6418F81C-FEEB-4F91-8268-B329BFFC9DB5}"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3FD67E8F-4DC2-48D3-9E6B-CFD2E67522CC}"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ACB6103D-9BF3-46BB-B099-C358D1808179}"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BFAAF8D0-FCDB-4C27-810A-65C80177E684}"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C2461AED-2736-4ECB-8F7A-D15615F91D46}"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49007979-18F5-47CD-8B58-7A3DA80CFB0E}"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77150D3B-1893-462E-82BB-0A1E891C9C5A}"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F3CC53DF-C9AF-4467-AE83-61CF4ADF6B41}"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C9478F2E-358B-43ED-9D8E-89D0F4CCFE1D}"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CF9A6CDD-D34A-434D-BB66-5E6EB689C6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CD256B-9068-433D-81B8-AC661635BA8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C6FEE25-57CB-429D-9490-645F2D8B1B2B}"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FC371BB6-AC4B-469E-949C-365B2A220419}"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FF277C0B-9214-4747-9CD4-D68C501104E3}"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FC33506A-5F17-4648-B5EC-E0D7CA208642}"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80E84352-9469-4A96-BFE4-16125D97496C}"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A8E8C44A-8D57-4B27-84E0-13FED31D4C0A}"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7FDE970F-505B-417D-8F73-F68EE7028A6F}"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45DF66AB-1CAF-41E0-9C2C-16E58DB4FB88}"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8D8ED5EB-A303-4DDB-8E80-160F7998E17F}"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939DF499-82B5-4CE3-985C-FFC2482034B7}"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D75EADA4-8041-4E73-B55E-92B970CD658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9091D74-C2A6-485B-847E-D8BCDB95AF04}"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AF34A2D9-DE91-415A-93F6-C2C95B539296}"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4210638A-5C30-44A1-9D69-C6E8BD6FA1E2}"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4FAA372F-88E8-4761-8C14-E6852F4DA3AF}"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BB656F66-A559-40C6-BE46-07D2B25C35DC}"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8DA4728A-1EA5-4ABB-A22D-219CF3AF4FAE}"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B87126AB-85EB-454C-BEFD-1E7760EA6490}"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1FB006CD-D5A0-4687-B611-2628C9D05F08}"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2109C961-CED1-4A5C-972A-DD669BCD72C3}"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ABEAF4AC-A922-4478-9896-E1283DEF8CED}"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F7387A2B-44D0-4531-9406-8DC779B659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2DE1F54-3F0A-49B7-93F6-91662FE26A8E}"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23736502-1A5C-4D52-8BC4-A2086C1F57B2}"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63660E0C-C784-4AD0-9443-1F91F99914CC}"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687AFEE8-E3A0-4DF2-BBDC-46E1DB5B5511}"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61D618C1-D5D5-40C6-94CD-A23452C77960}"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5108E810-0C5F-45F5-A539-45C8BA6CC8B7}"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932B32F7-265F-40E7-9D12-96531949FC96}"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F4D58C34-6F28-49B9-BEB4-D347530D69C7}"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19A1740B-8DC9-4EB6-9745-04C3F83359AF}"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5DBD7B48-C23A-4529-9BA5-FBE955FE5F6F}"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FD832747-8074-48D0-96DC-5BB69DC5E4F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4E72791-B974-47D3-90F5-297BCC1B32D9}"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C3D5FC60-F681-4383-9041-460666F30F88}"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877A5180-B4DE-4D19-8664-CB28388F3B06}"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23B6CB2B-75EA-4A59-9263-BC1D574A6E1C}"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3675659F-39B2-43DF-91AF-B2F641C04043}"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BD71FDCD-B998-45E8-B46F-8244B94AB137}"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FCCCA82F-1815-4B22-A0EB-6FA070F10EF0}"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B548001E-9842-4CFE-A388-4C9557771036}"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5C445B2C-216E-47B5-9AE1-416F27F61BAB}"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47BB2FC7-7C72-4BFB-A965-B0B01F2D827D}"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833E6D69-3BF8-47B4-9DF3-B5F4D451E93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FF5C1E7-9D54-444F-8346-A07B2B79F289}"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FAD9B56E-F4B7-49EA-969F-1DC79AC3C28C}"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E28146E5-2C4E-4CFB-8539-0B1470431414}"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AC8811D9-42B0-45FB-947E-8876B27DFDB1}"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875A74A7-C3B4-426C-9F87-C5609D8D78A3}"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63DFE55E-3AD6-41E2-B9E0-0BD67FB4E0D0}"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F2F20CFF-54EC-4682-875D-40A0A8B8C104}"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113224B0-E619-468C-A22B-98ED5B3F099F}"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1D5377C1-0836-4B9E-BCBC-8E5A38BE02D0}"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8F9F7754-270D-4820-A341-EFB8713DC343}"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D67FB44D-637D-44C1-92C0-25CDF0B3C04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7BE3D60-78FD-4DD8-A5ED-A5ED86E01BBA}"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12995052-FF80-4DAA-AE81-2F3ECCA42D09}"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BFF8AE61-D7E0-4CDE-9FDC-A7B5C3F72603}"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A2EA9A63-B4AC-45CB-9D49-7E2026648BCA}"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BC7F619C-2B20-4452-BB04-2DFDAB4BAA2B}"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352988DF-5A47-45F5-810E-B59CD853CB8A}"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0BEEE164-09C1-4AA5-A55F-4CB5BCF05BBD}"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B063EF1B-D362-4DFC-A6E7-9F0BDEFE3890}"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99AADA0C-77D0-4981-AA1E-1095E492E64B}"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CF470835-1B4C-4238-A046-A5755AD6971A}"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F22B993F-FEFF-4BB7-8733-CA346861124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17A46FB-C66C-47F3-BEA2-69AF0EB8C69E}"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40F14030-7189-4EBD-830B-950CA71DA2FF}"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BE21D5D8-E8DE-4CC3-8ED3-E5109A6FF94D}"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B5DEB9E1-0549-4BE2-AB15-B2200314E15F}"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4B107BB4-BB1A-4B04-AF70-3AD7D65A39D4}"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1685544E-1697-4087-A989-56F298387317}"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63AEBB18-6AB3-4FA6-9522-4AA227884D90}"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8B10FCC7-AA25-4AE9-B57E-8CBF7130FE56}"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CB0CA5B5-454B-4F94-A3B1-41EA416F4801}"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FA0B0AA2-5AAB-4865-8189-602926BA1FC8}"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E5F48D77-DE31-44F4-AE9B-371B1AA888D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BFF2F26F-5489-48A8-984E-F912FA395BDD}"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CB0CF6F7-5440-466F-A354-1AEB2D59D484}"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64323FC7-B3D3-4390-8B4C-169AE68A1621}"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941EAB54-C791-4CC7-A26B-55549ED177BC}"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A850267F-F5DF-43AC-A649-96251EF324CD}"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2CA716DB-3647-4C0A-A73A-DC805AD0CF12}"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93E0619E-5348-4CB8-B2E1-7092603FBF1B}"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FFE74364-30B1-4BA4-83B8-5AC1379E0123}"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9EA88D98-2B7F-48CF-AF5C-82B0F00B6C93}"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0046F106-9DEE-4C6B-9838-04C3583952E2}"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93FB260B-7B2A-4C86-A696-0891D665291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54F8591-7E1E-484D-99C2-006AAB140E29}"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570A2684-4223-4C41-976B-4A187593C155}"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C62AEFC0-83C9-4BE7-9164-E5272A9ACD01}"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8AF1F8F6-8099-4F3C-8895-7B56580BCA64}"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220E2D33-ADD6-4A43-B25C-2F1C654F0B68}"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148EA9E0-6589-4BB0-90D8-1349CFB54884}"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FC0859B0-53E9-44BD-AB92-08C8E6B3D4C6}"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AE2C47B5-AA4B-440E-BB16-BEC833849DCD}"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B0BEA6B-CE3F-409E-B8A9-66C975DD2071}"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B624BCC0-4240-454C-9E98-549F615C8CC1}"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C787177-AFDF-4E37-A361-80CF69AFB32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F5A2BD1-4F1B-407D-AF41-E9C95C1BA2CD}"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E0191245-DC34-4208-A5F4-A4A32B4C3522}"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295B110B-198B-47FA-AE92-B5CB850BC99E}"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9E78CEDC-1D1F-4F7C-8097-BF2F7DE2310E}"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59247E53-387C-4D0F-8E6A-9D3099E70A5D}"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F03C629C-61AA-479A-9FC3-C3A303A859A9}"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3F88A04C-E627-4B58-ACFB-6BAD0EF40B14}"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9ADA0B05-A553-460E-9227-0BB97D0AF64B}"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9DAB3954-D176-4172-AFBA-6DB16B5BFD51}"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A969694A-5392-431D-8F88-8454123B07F1}"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F18B1261-C6D5-47C0-B539-5EF0B16866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37DDF26-31E9-476C-8230-55069F32953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CE9DF09-C09F-44A4-A6D4-B8457E2917ED}"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20276926-23C9-476D-9014-D72AFE88DCB3}"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2D032C85-3470-4133-8D1B-52757AA5FC2B}"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0DEB0BC7-DB43-493D-BBC9-1063D3D3B6CF}"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EF77A931-C51D-48A4-B4FF-E48DF2807C31}"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8443DAE8-0A79-4CBA-A12F-A7D42AA3FC88}"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5934712E-9A48-4AC7-AB51-CA68A56C4A6B}"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95596404-E9AC-4170-9860-7BC1351D4C89}"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75F8D825-D007-417B-B3CF-7268D77C12FC}"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2CF63F1A-7D19-4FAC-88B6-F0523368F880}"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778229E7-0A23-4F45-9F17-96B2745AFE5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6D6993C-16DA-4B05-99C9-A87C6BBD7107}"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4ED9FD5D-11F8-4F94-B976-C3288F7FCBB6}"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EB5139A3-5929-4338-BBFB-A18CDA0FCA37}"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38F29165-B94E-4A2C-BAEE-064E7A4EB611}"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8823FA35-CA08-4C0A-A02D-41FE5747C4C8}"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EA9E33AA-8511-43BB-8031-A08A8A15A614}"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852029A8-F491-4424-82BD-A5E0169FB741}"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B2F33906-4C95-4D2E-A969-FBF13114A206}"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5EB70359-B355-44BE-A057-BC5833D55C74}"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1DF2BF90-D011-43CF-9F4D-A82741B627C4}"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BCF580E0-08AB-4B9C-B52C-1E47EBBC890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F761030-485F-41A5-9EA7-7BFEBA274773}"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1A53EA3B-17C4-4B74-84B6-2B004DBB651F}"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A45B60B6-16A5-4D6B-BE78-1ABA5CDDFCA8}"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3E053F21-EBB9-4B6F-B1DF-2FBC85F83128}"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06D941C1-BE70-4279-AA4B-584CEE003B4E}"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DAE97C8B-4125-4FFF-93D7-B30658C2AC07}"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35EA5402-EC49-4A22-8F4E-83C3ABE41CA4}"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CB19BC51-C389-48E9-9BA2-49DE15B1AC5F}"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E0D52293-BD2D-4467-AFEC-473B9027B4D5}"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6D90E280-8F41-48CF-9089-B1535092A63F}"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DEE4A649-3E8A-47F5-83B0-B728AD1AC16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3088679-1AB5-4F2F-AB2C-E0EA13BFB083}"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280A5C9E-FE4E-4586-BE1D-0552544FEC71}"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9209133B-6C40-4328-AFC9-BFAE5A22F77B}"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4FDF6EAF-6D99-40E7-AC92-DA01677BD510}"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997C1152-1F7F-4412-B575-CB2A82D144DF}"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6A13E185-7DC0-44EA-9D0E-05ECEA3CFEC1}"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A4DA30FE-339F-4658-A728-63DD0005F672}"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465BCFE0-4D1F-4EF2-8409-5BE03B7369E5}"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51421E57-AB48-4D73-A912-4647D4FED281}"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1C5AF4DF-7C17-407C-B556-91B49DFF80C3}"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8F45E70C-3625-4590-9D89-7688BBBE8CE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DC6BDD65-4E7D-47F1-9AAC-18EC1CD2E3C7}"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9F32D680-6C92-4DF2-AC3F-C70F8CFC6BCD}"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E5E37E5F-5A3F-4BE8-BCFA-D7E16121DAF8}"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2DE3E306-0DAB-4F00-806B-61502B240083}"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BEC6F021-DD89-42A8-AB99-6CB8F8895ED4}"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2D23D524-52F3-45F2-B487-AD92F4EB779A}"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542F6206-8192-40CE-82CA-A11A98B906A9}"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E26066E8-FC8F-4282-B097-423EBA540936}"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387A50D8-EF4A-4516-89E5-58666B295611}"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8A49701C-10FA-4D17-98A7-25C29295AE92}"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B2C83E5D-7E3B-44E5-A34D-9A96E7C4896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FDC43C1-1455-4951-B676-20B23BBF789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347E554D-3849-463A-A605-EE9936051032}"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F22453E5-6834-43AC-A398-6BE6E0B1E5A7}"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B351A77D-CFA1-4918-BB9E-9BE7C23D0A6D}"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690FBB21-97EE-469A-8EB8-7EEF9D377F94}"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68228F43-32DE-4B01-BC9B-CF040BA3409A}"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5ADF68A2-DB54-4E63-9F36-BF980DAAEE38}"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8A2CD135-29D4-425C-B03E-693DE825AD84}"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CED15827-7345-45CC-A1B7-3E7C9260467D}"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7FEC71DF-A881-49D3-AAE4-378B489EDB04}"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393D4A88-91CD-4DF6-852E-669CB0FAFAF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B1BA914-FFF7-4404-9BB0-138EBF192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114A66D0-8D82-43A3-BA45-EB521ED1DFD7}"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EBE73777-EEAF-43E7-8830-68CA3F563868}"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1065AB70-E4D6-4F5F-8EF3-22A893D412CE}"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D2367BFB-B72F-4D64-A6DC-4E4F33E9F008}"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3FFEB21D-1479-4412-A7E5-337A7E4687C2}"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D7B0F3F6-D629-4947-808F-7AA83310AF87}"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68540D18-C854-454D-93F4-D319F96C3CF0}"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153242EE-2A44-4466-8D4A-58C5DEBDC7E7}"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5A7BD044-576A-4EA2-A275-BEED35E314CC}"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E41C05CB-B9C4-4218-921C-CE7674E7F37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B6C635F-68B9-4DFF-81D6-67F8F43852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3C3592B1-153F-4E49-9317-1B69868525E2}"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49EB30EC-97A8-4823-9B55-0467C443108D}"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4F853DF7-FE24-499B-B627-B0AA11B7486A}"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670BA1D7-DD26-440A-B91C-5464489F91FF}"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8BB40A94-DA1C-445E-B3A7-1952CEA0BCDE}"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3F8947C0-F6C8-4174-A4E1-0908FAE63D02}"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8B04102B-3085-4CAB-A94C-A863870A24E4}"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B631B6F1-FD09-40B6-BFD3-2B3C6B6FA340}"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23B3A587-5380-4D97-A479-98D26371F791}"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7844BC83-BA20-4CD3-B24C-8A8141A1FF5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D341DB7-13E4-4573-83C6-B725B7148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165FBD6F-DB4C-496C-A542-B45A5C722C31}"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0A9D6D89-8338-40B1-804D-84CAC5516C43}"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EFF6DACC-F920-43A9-AAA8-341CA83562FE}"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C7E72E24-3A83-4C44-8F03-9AFF2E19DB5C}"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EDF30A5E-083D-4A40-AFE7-4319168EBA95}"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B1A9622B-5007-4365-8643-0C278B4CC63D}"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40B485C9-1A3C-4DE1-90F2-1EF8A5446157}"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30BB408E-47B6-4BDE-AE77-C92F08AD024B}"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EBB33BD3-4EDF-4A0E-A171-984146C66805}"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8EB44E95-AB97-4EE0-A2C0-F5F5FA65458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7325FA3-86BE-4987-BBE4-1848306E2A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262A79B6-ED1E-4F7E-AB4B-52783D3FDD1E}"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56D5DA0B-41A9-4D6E-9940-C3AB14041A81}"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5EFC9858-FA11-4EE8-8DEE-3BCBF64CD946}"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6E0E3E11-FEA6-4638-9CA3-E1A30ABE2DC3}"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7F908693-47BD-4F45-BF54-84B7DDA4A0CA}"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65A2D574-AEA0-475C-A67C-45CE379BCD4C}"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242EDC8C-62D1-4C8B-A79A-805A1078885E}"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528F33F8-9BD1-4DD6-9064-F187B5D3D85D}"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C6E1226A-DC86-4A47-87DE-056A89665687}"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97E620B2-6421-4ED5-A443-44D2D17D7A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8D286D9-D4EE-4044-8D94-21C3C35B0BF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482A436-046E-4888-819A-BF693C4CDB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FB289C08-E225-4FF6-8BFE-AA09EBBDD1EB}"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8F7D1915-B5D2-4BAB-B9AE-5B9055720B95}"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47FC8B82-2782-4974-8A87-10162AAFF9B2}"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CE6D8EA2-B225-4FD6-B611-E8C9AC8ABDCA}"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F3B40187-36DA-4E58-A12E-B90E9B30CA78}"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DFB8DD76-E24D-42F7-961D-2CEC2B782350}"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06732EC2-78D9-4994-91A7-CFA3F85EA02A}"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B653E22B-D827-4FB7-8AF4-DA3645313DA4}"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2450C8F5-FD29-420C-8A92-94D2222B4526}"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3089430F-3B0B-4C0E-975F-3ACDE347810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F0B55E8-BF10-42D1-9499-35570EA2B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953CBEEC-840D-45F0-9EB5-C8697AB27236}"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68073300-516A-48E0-A4AA-8798FCAA1CDA}"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64718E7A-7581-4825-8F7D-2C99032435FF}"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60F6128B-11CD-43C0-B40D-51B81CC37E56}"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3B33BFFC-E43F-4F3F-AC67-F3915F575AE0}"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F156424F-5D68-4F76-BDBE-6CFAE557D259}"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635AE0AB-3B4F-481F-BB9F-B167DC34731E}"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DF6CC4C5-5BD1-4CC0-B645-30C685DC365C}"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BCB147C8-35EE-4C57-889B-53B39A8745F0}"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BFA28B9-D3D5-41DE-8A80-61811CEA09F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751352E-C527-4306-95C6-C2325F133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FF40B5EF-52BA-4B97-89DF-CAC49D74937E}"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921FEA0A-F0A5-4CC0-B980-2EAD0E91AE55}"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D826A9FE-21DD-49D7-9B94-B207B8236D8B}"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6EB2189D-93AA-4AC9-A735-4B0CB6C1D639}"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62B0F272-5889-49F4-9AF9-06FE7208E0EE}"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D4E292AF-4742-40AF-8295-034D43113DF5}"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1DC705CB-472A-4CCF-984D-062A7EFC91F2}"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4DAA7049-BFF1-4248-ACD8-85F1914C415F}"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722640A1-276F-4661-BF58-83C5F1CCDA4D}"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1825D040-FF1C-4727-BF03-F5293056A3C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59084AE-2A87-4895-98D2-CEF447133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E4B0A16C-B9F1-4871-854B-E402505E5AE3}"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5BF2DAE0-728B-46AB-9647-0AF2312BAE04}"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A337FE93-2E1A-4046-9132-CDB444875719}"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B4D80376-67AA-4210-B777-1518115FC0C7}"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75E26F59-0F73-44A5-95E8-6CCF27140F59}"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A729FAFA-1AB3-4AD3-B91E-C1A382ACD834}"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DBE76074-24F9-4E6C-86D3-34D43A5523FD}"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E94DF58A-21FF-466F-85EF-5AD95953B1C5}"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69C27C32-094E-4CDD-89F9-718D45AE87C2}"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5463AD20-1FC4-4D3C-8990-D8CBD02142D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18E9B25-1817-4B8F-AE4B-8A5DDBDCE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9D71E510-9A87-4B0A-B495-F91B2FB38989}"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62392D5F-4252-49F8-AA3D-5DE368BEFEEC}"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48F883BE-BFF4-4E3F-A6C2-16589F7A7840}"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BA81D951-A769-444E-9C61-43F905E3CEF9}"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63C27F35-04FA-48C0-9963-ABDE77E34896}"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DD9D47A1-9076-44CE-B0D4-5A069F4A1266}"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F46CD352-2E42-4D0D-8C1E-E131937627B3}"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37BCF73D-D1DB-4DF2-A8C7-827762E907BB}"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3F97EDC5-A43B-4AD7-8F9C-A32A6332F5C9}"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BB2D4D84-8173-4E5B-A481-5605509A470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90ED1ED8-81FB-4F7B-B90E-C7FDD668F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CC83D732-E130-466B-A39D-0107BD0CF6B5}"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EA5349B9-944B-4C43-B932-A333C8CB5E31}"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CAD7F7C2-25ED-421E-884A-D5275B03D189}"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12FE4860-A040-4C83-82F7-1039DD796111}"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A3A1770F-C240-4B07-BAE2-8987DAD872D4}"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87FBF434-7137-4448-881C-CC1FAC654F12}"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0E73E008-48D8-4988-8FB3-98248A9CF8C4}"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2A15CF34-5134-4F63-9530-CAED18C30332}"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ABA04552-9D44-4D94-A423-2B74E460FA0D}"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207D9C9B-0188-4621-8742-26A8FBE5F54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7A02D907-5B51-4AC8-8A23-CC5F729B32C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85DA1162-083E-4B30-8070-C730170A9F49}"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8C45DC45-BE8A-47F0-BEFF-873415D52602}"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E9B4C18C-3494-4CD6-8298-F23CDB252B98}"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B6E073BE-8FF4-4537-B9BF-2FEFD5E07254}"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B30C1451-7F7B-4755-AF90-07192F8E8E31}"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B1ECA821-6374-450E-A7BE-E544645A7685}"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1FB14216-2B8B-4ADC-B0FC-4019A2231BD4}"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46E12A66-7E6B-4097-A211-44668F3F632C}"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ED75CD1E-EE45-4E39-A81E-99742F2BC63F}"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84DD5D0A-593C-48B6-B99A-970B9FA1558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241AD6B-1092-4FE1-8536-E0651196779F}"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2617BAF4-5112-4139-99CF-9BABE181747E}"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32992B5D-B5E5-47E3-ABD3-ABB9641C5949}"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98592B72-1640-4DD2-ADD9-9B9803184EFC}"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349D533E-DA8E-41A6-BC12-C2FA19A456CA}"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5E1C6727-90FB-47FB-8836-1A9C53F0BB90}"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C1CF178B-1FCC-4EDD-A1B7-3D279B16265B}"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6C77BAFF-0870-48D3-B6F7-4265DFE64F10}"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B57F2263-9E6A-4854-AA3C-989E599BBCF3}"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21A21B97-768A-4DA4-80D3-E88B7156A90C}"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294187ED-CFC6-4C19-B55E-525BBA9C239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6F33EB48-BBD6-45CF-A13F-5A36F9294465}"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28B0ADEA-9949-4BE8-9FFC-00BE2FFB5F56}"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62E6A9B8-F3E9-473B-8BDC-C890BAC2006B}"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6789C42A-5F7C-4E0C-A854-78ACA71DDB90}"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ED4CB352-6AF9-4F20-8EC6-8801EAB1F104}"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47978F07-16F6-48BE-9ECF-093A769FD30C}"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3EE6F451-0474-4C0D-ADAE-0C4936D878C5}"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9E2A4C83-993A-4CAB-86BD-547A7A56015B}"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F2A7976A-0600-4D95-B5BC-18FC49E6CBEA}"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9294BE03-2F77-484B-B2EE-B039AAE2A1FD}"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157389EB-F168-42CA-88E6-D71249257F5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C888EB78-D11B-4CDD-845E-15A307F1BA5E}"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5EA6AE11-4703-4D80-974B-EEC4B5B48C18}"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BF910505-CF8D-4234-BBD9-B03819D98FF7}"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84D37E02-2E03-4547-BD27-E416A3D8D8C7}"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10FA3FBD-9739-488F-B693-8E125D4C31B7}"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ADA7445E-A530-4327-8B20-D8625F4E9F8D}"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B6C41B0A-3C31-4167-9AD5-3F0C66543F08}"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C4896290-3F8A-4E42-81D4-9BA57CD82601}"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789B701A-E9C9-4AAD-BF7B-7A215CF3DFC9}"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FCD81C73-CFC4-4758-A0E0-6B2A94D42E53}"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7DC072CE-19C2-48BD-9EBB-1C2F764E22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908264E-0180-4F66-8DB3-DD67482E259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2119DA5F-C8CF-43DA-95F7-B8B6437FAB11}"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207E4646-179E-4478-85A1-EF049703FBAC}"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FE1AECEE-EA0C-43B7-91DF-28E008A8013E}"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6F89A17A-F6C5-481A-A5DC-E016E49C1E31}"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2B58D3B9-B545-49B2-B3FF-4426DCA9A040}"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AA16606D-83CE-4049-9E17-D5C1725C635A}"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7FB2F78C-23F9-45D6-86A4-45CB88053824}"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DC3CF0A6-DA04-4360-9A9D-F30F5470A6BC}"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E76D87C2-1B6B-44E5-96F0-81F4B06C2020}"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3B324333-2C36-4168-A51B-209329A93BD2}"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56290536-5870-48EC-8EEF-5BEEB006F11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D6C43173-C6F2-4440-BA8D-038E784AA313}"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EFBB0846-4878-45E1-B38B-6E7CC3B70AC9}"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65E03257-7F18-4025-AD01-6200A7D81A6A}"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6B48055B-3FFA-4FC4-BF72-A5254B9A587B}"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3D8F122F-6A08-437E-BD09-67F71CD18F0C}"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D84C066B-1E2C-47A0-863D-59811E821E05}"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3B781131-875F-481E-958C-721D9089A2D3}"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28DE23AE-8FD9-4676-89D6-4C446856FABB}"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44616DF8-3FEA-4A52-90FA-9AD39E40CA29}"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F8C477AE-ABB7-44A0-851D-B195C9317C59}"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CCCE8A44-D9F9-4691-8EF2-A2530F592EE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50618F69-AB43-4CE4-85C0-42ACDB4BA9D7}"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B7D88E91-FC0F-4BB1-B1C4-BC4888D8D60A}"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C519CB08-94AF-40F7-99AF-81301E4F3E5F}"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EA4DD229-32A8-47C8-8DF1-77E102756C22}"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7D2B5EF3-1708-45B2-A541-5814BA443F83}"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53574EB0-A9FF-43DA-A532-5D6F7BF5E35F}"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283A5F1A-715D-4613-BB7C-AC3F05BFE1DF}"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2FC7D738-BB80-4BA8-BA42-87D291B79EC5}"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24142C9D-3AF9-4865-BD1F-F9FD62F23DDE}"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44F16F2D-1C39-4919-873C-E302772DB280}"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36CF8547-F56B-4688-AED7-7A8D7DC9093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5EE907CC-261C-4FD7-8AE5-0E168A748D93}"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67E2A45E-7D33-4CF0-BBBF-863A5533332D}"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A7965CC2-4A02-4EB0-AFE1-DD20D5B2B10D}"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C2AE3B2D-44DA-4969-AB5F-53C69C50B625}"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FE5E8784-2454-4DED-957B-54D83DC9E560}"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9481928A-C115-4410-BB00-E633D6F10663}"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77CB6A6E-EBF2-4DD0-8D18-3E06AA2A81E1}"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78988E21-FE9D-4F2F-8A90-D1EC1D6FFBB6}"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A371A52A-784A-4C47-8DC0-37AC0FDF8A51}"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E804B480-24EA-42CF-92DA-79BE324FFB9C}"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D078EF29-F8D3-41DB-A22A-71ED324C02D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217980DE-AAF0-46EA-B72C-3C71204C21AA}"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706952CC-6915-4DCA-8451-AF32F9567979}"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D34A7E88-ED9A-4F21-A764-AADB59517C12}"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16F5243F-99E8-47CE-94F6-9EBE515EEF2D}"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C4E35BAC-F508-4A80-AF71-A4300EF5941C}"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A1602A10-927E-4E26-B984-AFD77D698895}"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0162864D-BF92-45D8-A4E5-B7B76AA97A81}"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44CEC2BE-6FDF-4123-AB98-3FF6799DFA01}"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7AF09085-68C6-4018-B98E-2CF462C9B8E1}"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AE8779B3-1F6B-444C-8FAD-B90A31378EEC}"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7FBDFA3A-D41E-44DA-B58F-08E76A8EED2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783ADF20-78D0-4E7B-98F1-6D2E3D5F99B4}"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935AA66B-3F67-43DE-90EF-73013143E293}"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C6A2715B-1189-4E80-B267-F4742F474E73}"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3D0C84BF-872C-429B-A74C-5C82B2D1092F}"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32E404BF-FF6A-4066-97D8-BE618843D025}"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EDC299CD-7E24-4868-8488-84E1ED329318}"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C3CE6001-9A7D-40A5-8368-F2A9C8653449}"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200C6716-F427-46F1-ACA9-01FC96DD7702}"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876432F1-0069-49EF-8115-08662D3EB079}"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C9057E1C-76FF-4A56-AE87-6FBAA4610391}"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B523A457-BFE6-4544-A62B-E2EBF6A446D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63B64322-FCC3-46E3-9E40-09708816C827}"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48355B67-17B3-4819-8F01-99393C45E23C}"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130B8567-2A21-4E2B-9B51-14E496787295}"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AEDD29C0-A8F3-4ABE-B1AB-5E9D725FEE29}"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7FC260A4-4885-45BF-A1AC-D914EDA3E889}"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1609C426-33E6-417A-B758-F62BBCA9932E}"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17E69000-483D-47A4-8C93-395311ADD9A9}"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C7142480-BEBB-4459-B7F9-6AEE64DDEEA2}"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79321091-8496-402F-8695-B2E8CB8E7663}"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BC584DF4-2D31-4005-86EA-C5E9256FB500}"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1F20EEEC-2A9D-429D-A217-C8238E44F93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32702B9F-B56F-40BF-AEAA-F2DE296F0B5D}"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64397B1B-8224-4EBD-8592-30D59F090A70}"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DE2EEAD6-D65F-465B-ADCB-25174BB316F4}"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3737DA8C-10EA-4D99-83FB-2ED0EB1143D3}"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1AA5EC13-4DC6-449C-96C9-621767A66B3F}"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A36FA863-82E3-4A9F-878E-46913B760D50}"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35C26AD6-4392-4D65-BF7D-B18E4BFE9DA9}"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EE1F6CB9-F467-4397-863B-0710596717A5}"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2A38691F-8569-4988-84EF-39EDB3F4D167}"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D4FDC899-CAD5-4D52-B120-94310597E1E8}"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951CB7C3-E413-4723-B9D3-DC5F9A14CAA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CAE9BCBC-6804-47DE-97F3-81EFD47F0C0D}"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89EF1949-BD2E-4753-A053-A38CA51B91E7}"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C50BC8EA-F854-4842-98FA-786D8B53EBEE}"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C5B97FEC-8E88-4F5D-921E-5D3BCFBA4324}"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B9863E04-08CA-48B9-B284-3EE684BBD822}"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43CF939A-E77F-407A-8D1A-4CF4C489D9A4}"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1CC7E49F-6359-4D54-BD81-E070EE15DB3E}"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063BCBA0-3EC3-4A1A-AFAB-24BB5F106EA5}"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209E05E7-CA8E-4FFE-BA2E-98FAC760CCFB}"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4581DBEF-7EAE-48A2-83D1-429721EFAB4A}"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176CCA65-E234-41F9-8AD0-A9235F6B1EB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586CC1A-92B2-456A-8088-FFF3C92440E7}"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D7E52DA8-FB78-40E3-8A6F-A4A89A9C9AC9}"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A161DCC8-17E5-4317-BEED-48A311B93DE2}"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2AD621EB-6286-4C81-BA9C-F2B358452011}"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E0BAB094-8A52-4C4D-83B5-3DA19E7537E3}"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3A1C87D8-DF30-4C0F-8849-887D56C9D7DE}"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EB740713-9FB9-4188-B531-16E99B4D1A22}"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0A98B0EA-EFDA-46F4-B3B6-54ABE81081A4}"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530546C3-ECEB-4CAC-98DD-9E229194F69B}"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81989D89-E78A-4CE5-B959-D9B68152FC39}"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7D2B6384-3B65-42EB-A701-44A405FAA4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2D03817-367D-4FEF-B846-93EB109048B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6DDEDABD-C018-4DD0-8163-EACDFC17D7AD}"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50012037-DAA8-4D75-82E8-AFFA6ED10B17}"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BAEFB1F1-BE19-4C32-95D0-72F740337631}"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39C1CCEC-29FE-4A6C-BC44-F21A97719DB0}"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6D3A27A3-C866-4D4E-9567-AB0A21ADC258}"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99D22F62-D316-4D59-ACDD-797C14730B21}"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BFA534DA-6FC3-45FE-B731-FC1F4D8AFB91}"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964538A8-B9BF-4203-A682-2D08CC69E6AA}"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9445A71E-7DFB-4397-8351-31D91C9C1111}"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116DC782-0323-45D6-9F10-4C0A2007E620}"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806BB68B-5B80-4AB9-958B-EFA8D565332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499387D4-0BCD-435C-BACE-ADE84EEAE662}"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366A4A79-FD2F-419F-8EB2-7F8095138C4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99F24B8C-D4B9-4733-982A-BDB66884C829}"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B5486F83-E330-4C3B-A445-C1FF8CF9E54A}"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9A26F368-748D-4DE8-8542-3C60F626A49F}"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7F334C81-B92D-4065-A43E-942A99934EF7}"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9EEEAA98-5A5B-4327-B372-3A3ACBB8308F}"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746E8D0C-D163-4265-BEA3-1566B997B926}"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92C4D6BF-2FF2-45FF-B9DF-FCFB1375BB87}"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514F3C34-BF0D-499C-B43C-E18F1D81C1DD}"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52BD3556-5620-4394-B25F-693C6DB8139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75D40F5A-5707-4033-953A-3C023700AF20}"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363A5FDE-1164-4842-9A91-4677F692F54E}"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7D3E1B75-81D9-4113-8800-083C30F7D982}"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AFE13129-1E5D-4950-8E5B-33E6A2F58116}"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B6C7F4F8-1002-4CD4-B748-18DAC5FF18BF}"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CE6FCE04-524D-478D-B861-4E36C5ACBDE0}"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917F5CC-1529-42C4-96F2-3671C3989816}"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AB68D369-0292-419B-A630-B479C1AD4EE7}"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ADB242EA-6457-4995-80D5-153CF3F1CB1D}"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9D7CD52D-4841-4827-A407-6C6A648E5867}"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FE0BBA14-6F1F-468A-B9E6-3723A0B311B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F675FA83-9767-470B-BC96-BF8705813EDF}"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9D0F76F7-141B-429D-B46F-1ADCA5BD8B9B}"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C3399062-0CC9-4DFD-8B90-8FC33744964E}"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74FB3CD7-4638-444F-8F50-8879C9DDE544}"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F2C9F538-921D-49C2-A00B-FE226F77CAAA}"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4CB39158-5BB4-43B7-91C2-0BAA36A693EB}"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6163C36-1104-4CD0-8D3E-53E3AB6E117C}"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B7129B23-468B-4433-98B9-CF00DA725E6E}"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D197A760-D33E-41D9-9CB9-6A80F0434DF6}"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98FED67B-B633-4645-A257-63C8DDEA9297}"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1E2BCE10-C5A2-4A89-8D40-22A4176A3BF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2C2DF17A-64B6-4FD7-A699-9082835EAF76}"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BAF23984-CCA1-489A-B659-465AEDE61723}"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52A86F53-2C54-4F56-9FFC-66CBE02804AB}"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FA5D57E2-F2B3-4FD0-A6EE-0C7ED253CA6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799171A2-BB1F-466A-A925-536B53F8E4E1}"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DCF7D508-ED05-46D4-BE63-4139B5CE1B1F}"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6AA9C3FF-3C91-4572-9B27-15DC9A135FCE}"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EB2F4879-9C62-4193-83C7-6E22FD600D45}"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744C19EB-8F4E-4E40-8A9D-05DF360CC75A}"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E1154ED1-37BF-4333-BADF-56A2D2DCD274}"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65384C9C-798E-4071-BAFA-E6931E00FF3D}"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C4539AF5-4524-4305-84E7-F9C537928D6D}"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D3FB8649-2CD3-4DF6-ADAF-D423FBE5F7E2}"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06F22DBA-D715-4B39-8FA2-A70545F54EE0}"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E51ABDBB-40FA-48FC-96F7-2E6340CD0189}"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C76D9763-3C16-4BA4-BCF6-1AB3A409463B}"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03567116-8D84-4149-B4AD-8F4E60E1E442}"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76AA9981-845A-4BD1-A733-37309D18B761}"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54B64424-9B71-4D80-ADEC-BAC0409B0374}"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B15F2AC2-DC87-4ED0-82AA-134E93DB545B}"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DCC51699-DCF1-4BDB-8921-8AFB8AD1F277}"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994CD612-EACF-4F28-9DEA-B9573FF69626}"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7D55B33E-5875-4D44-BE2F-B2447120E8F4}"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1E0C6F21-A14A-4F22-9F85-B30F7DE75A31}"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57A71EE0-A50E-40F5-A751-E1A7B895363D}"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11EF17DB-059E-44D6-B1D9-C23755C2B26A}"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A7BD6FEC-F2CB-4040-9683-AC4B110D25B0}"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958791BC-1577-46E1-B541-A4FF43EDB94D}"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503D1B15-0D7D-4608-939B-6AFB4D6109D2}"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CC3DC5CB-39DF-4847-ABD1-437073E3198D}"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EC7C1A69-EA45-47DA-A65C-23295565C633}"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C435B7FC-0C7B-46FB-8519-F1D8137EFDE7}"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93A3501C-2DE9-47B5-B056-EB84DC8E2AF2}"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683C5C2C-EC48-4482-A13B-A1F83498B440}"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036B0F0F-A56A-402E-B106-1FDAC4A5F569}"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32C477EC-C09D-416E-97D5-1D716046B4B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51DB1DEF-D6C0-47F9-85DF-01297340B71A}"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7FA38FD6-F44A-4E14-AC60-20F3D527A530}"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42683C3A-A212-4D48-B0E7-96FB72F68855}"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05E7B194-34BD-4B29-B551-FA3267638B6F}"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28617C5C-6380-4895-9FD4-C898D9DC502A}"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B9C69E4D-959F-497B-97B6-77142E27E8ED}"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750FF0EF-00A7-46E9-AC39-F8857426D5A6}"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A36868E2-2768-4131-A1AA-A13ECA47D655}"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660CA652-E534-4BC2-8589-1DFD15FA92E1}"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D412C65C-CED4-4B0D-A337-C63E0B73FB1B}"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AB9D9401-12CD-4867-B568-393469B6C8C5}"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A819F3EF-8363-466C-84EE-AECB59FDAE08}"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15B6B358-564F-4427-BC37-4518D0F6599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875B0DF9-F516-4689-AB26-F722F744183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62A7F01F-6D30-4A4A-87AE-1C6784A70A5E}"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B60574E8-F3AD-455A-8403-BE9D19D6BC06}"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F153259E-143F-4A3C-A03B-84418361258E}"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6DB18B27-F567-4F2D-9FE8-3B5B253BC3C6}"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13AAA38A-245E-4AA6-9B29-BFE8E271D23C}"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061AB97C-AC62-416C-A7D3-2B9AF129CF46}"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4137054E-6DE1-46AD-B258-EEAF49E3ADD3}"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17116F68-9220-4123-AC8F-F68DFDB05605}"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8B530536-BF11-4D16-8FB9-5C2144AB8138}"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4BC058B5-02B2-4D0B-BE14-BFAAFB8FAB53}"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EE0A75B3-A6CD-4B6C-81DF-D0EA9FFF30FC}"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3DE6F2F5-2339-4D1C-8AF7-DA3053BEB59F}"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5BF6AD2-93B0-4A89-89D0-73E4E3ABBFE6}"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434F0A30-8B8C-4928-AF62-E7A7D1F27EE0}"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402018D5-A34F-4475-A9D3-FB06A12A5D93}"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4DE753CA-4F71-4B38-8768-84CA772257F5}"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1B5823C-307E-45F8-9E09-7FEBE761E39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982BDAA7-A64E-4B84-AB7E-02F534CCF2DB}"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82DCBB68-FB91-4135-9259-812C17EF9084}"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6C579DA6-74E6-4DBD-BBC6-A93B2FA163BA}"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501BBF08-2DEE-4A49-8B2D-B8FE08BB5F0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A9B1671C-7FD1-4278-8878-3898B20016A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F1E968D3-85EA-4874-9C8C-625045B0F13F}"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97AAF132-42AF-4F30-836F-DCAB6E664506}"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35529825-6C42-4AA4-A34D-4FE7997B5445}"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82AD4A37-6DBF-4905-84EA-EEC228C7CA0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A3A16AA0-4027-4F49-8CF1-2596AD1A7F7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4C3BEF23-87C6-4B1E-B931-42B02A9D1D1D}"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E57A600-2E84-4735-968D-86B2324F10E1}"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72C00C8F-8E76-44A7-A545-E859CE13780A}"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FD9B784B-8C9A-4E8D-993A-3A2DFA12D282}"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230C9F51-EA23-4923-8082-9E76A309A7DC}"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52C9EF80-FF92-4B5B-8DEC-61333181F31B}"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C06BBD99-9FF7-44D5-BEB8-73EA6849DA83}"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B4752A8E-D648-4168-BF49-043943775506}"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1B220BEC-93F6-4689-9A6D-777DE7400A9B}"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D5E0EDB4-5FAD-4664-B307-29F75DDC8B84}"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49E78B99-C5B9-4D1A-AE61-8614693C8EB7}"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0F148297-0583-45C6-A15B-BDCF353C9253}"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A8F3DE86-3CD2-4DD4-9704-2743E44BAD93}"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0A63C610-4CE6-4333-A8EE-3BAE5CB67A99}"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7A758A6D-BD1C-4AE3-BA03-745BBA28DAB2}"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98F71956-3A67-4CB6-9BB3-515BFBDB5AC9}"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86894687-9523-4DEF-AABC-F7B486BF2EC9}"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40F65F42-A8BF-49FD-BCC4-0DBAB7D9F25F}"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BCB36D12-E6E2-4C53-9CEC-895E2DED1871}"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C2469036-D820-4D9C-A40E-6D1F845219DE}"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DBB32857-E487-4885-97BA-8E1562F3E5B6}"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C7801ED0-43FD-436C-ADBA-1ED80B3F67B1}"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15CDA809-3C6A-44BD-A7E4-7A20BB6BEE1D}"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4FA99C4A-76D1-4865-AFF3-2BEE6156808A}"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A40D33DF-A7F6-4DFD-8013-D2BB4B3D29FA}"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641A5872-7268-4F92-9A8C-D28F0FEADDB0}"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B07AF5D2-0FF4-4AC0-93B8-215482D8B95B}"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1007AC0E-711C-4EF2-8178-A7B0B08F8E34}"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4164E4FC-85A0-4470-B5C2-621E0876D0E7}"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2F5CEE27-EA65-47E5-BD30-F8E3688238BE}"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1F1CAD64-83E5-41A6-A74B-D178EDBF5F6F}"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68633560-E350-403A-AAE8-4F3141EF2F6D}"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F866F4FF-0197-47DC-93C1-EDD055D4A6C3}"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80E3D7AF-23A1-4D54-95BC-EBEE66A5811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B8519F40-28B3-4399-873C-19E700A99A88}"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0A5D0310-C842-4501-AD21-4D86A4CAE27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0F72494E-179C-4DBB-B1D8-22C7D0276C35}"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80727635-A369-4AB7-A6F7-AB252360B3FE}"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D321D805-02B6-4EB1-BF7C-0070CF5AA68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AAA8A711-31F1-4CEF-97FE-7159E69CED69}"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89289EF2-F67A-442A-80DA-F0A15A0A5C93}"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B6EAD1D6-F577-43E2-8520-406E597DDD12}"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4DB34635-1089-4213-8B1F-37C5C68CB1D7}"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9510DF96-CAF2-4DDB-BEE7-76EB1258727F}"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3FA8FDEA-B538-42E1-A519-F0004015618D}"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2A2D5816-A6A6-4AF0-8778-5CB52504369B}"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DB35231C-4575-4168-A064-8882F7911BAC}"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F64E1199-3219-4918-9833-C00AA656E696}"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C49547B3-5C46-4B80-A13C-199F8C5A6EEE}"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D5C88D4E-E25B-4867-8BB3-D5059F5C35C4}"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8091D819-82DF-4E3C-B396-5C57771AFD43}"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E90810CA-60E4-4026-80C8-A60070464C80}"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5E59A098-8C83-47B9-A476-983897E65543}"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E170B37B-CC65-433F-989F-41B348F9F578}"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165EE1F8-BA8A-4716-BD15-468E199F0B0E}"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ADC7B8BF-9DC1-4CC2-B2BA-9B306A2191D2}"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506B05DA-2894-4805-913E-FCA756B06BC3}"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A63CF757-7551-4431-AAD4-C1206C04AF9B}"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31D8E1C3-0409-4E54-9F75-4FFD2335A409}"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36A78A63-A5E5-4FDF-A027-7261AB23FD24}"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B86BAD22-6F7F-4E35-9B98-91AE8183A661}"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ECC88EF8-DD01-41DC-B100-D59CF59AE167}"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4B1F4F88-9A65-48E5-A54B-E03F7B308C0F}"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5C159D76-14D9-4895-82F9-0A4DD210D601}"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069BCAC1-0A26-4DD7-A8F3-11BA4E54ACBB}"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3C4A8EB0-6B6E-4E92-AD48-712A8CCB9885}"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777D9E39-7BFF-4A67-BD45-DD9A525409F9}"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AF6CFDF2-9D30-47F1-990D-EE0CF9ED9583}"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B3C8D306-FE81-470B-B44C-56C9A1897703}"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50B1B651-D4B3-4B3B-8D3C-DE6481889E02}"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8E0B19C5-BDA1-4E83-B128-77B4BB380474}"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5BBBE27C-F546-40A5-8B84-D79C79982E5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B8BD490B-33AA-4E36-9964-A61EA92B43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4FB5FBB-8B0B-416D-94BC-4F5F4D73F74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634024B2-E06A-497B-B107-EEFBD0E183B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970B47F7-C150-4109-A00B-DE337139133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8EEEC5BA-B325-4215-9FB9-E09AC68485CF}"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467FE48-253B-466B-96D4-424C5B3BE21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C49F93F3-9526-4734-B958-6907E969898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3756B9EB-DA08-4739-9F47-10C47281370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BFB877DE-A7AD-447B-B55F-27C0F846119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103992E7-07ED-4548-BF3D-505171492F2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7A7972CD-C14C-40FD-B8A3-DAC021AE009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776CD2F5-F05B-4217-93A4-F6F25CC9CE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3AAC7E2-F790-4759-BA36-28B465A91F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041A235-FACF-4AB9-8E8C-39788E99D39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51314B3C-E91C-4ECB-A9E0-3844CF34CCC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4A507BE-0BF8-4A60-B37A-99F0F93B289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59004F8E-F80A-427C-9F61-A9EDC480F5D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98BF4591-0D50-4D7B-9860-092499FCE96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9E51CF26-E574-45AD-BBB1-A1C63AB796D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255FBE3-1D6A-4C3C-991F-FAA61A12F74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F1AA1CFA-4833-4C9C-9CF8-3CED03F93C6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346DE1AB-BC44-4C3A-9B46-7B6A264EDA8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35FA96CD-243F-4A68-944D-06607A34B13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9A530690-4A7A-46B5-879E-CC8D746A5C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C57572F-8D8C-4B65-9C95-6B9DA76FA28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BB5B779D-2DD7-4BB0-87C5-0C95A4C9649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935AF9C-13AE-4B57-A6CF-EFA31FD4A1D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E1B84752-74E3-4B07-B317-DC371FDAE82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F99CC0F8-D55E-4610-83B6-E961576BA2D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58C71261-10BA-4E4C-8733-8B5216530D1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21A28EED-BD14-4733-8083-35D13477169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0B4A58FE-057F-48D8-A6B5-8C437D5E51A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EC0C1B6-4A73-4F91-AF0F-ED4EC1405C3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C791DDF6-0736-4D76-AAFB-7287705F66D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EFD6EE75-11E0-4A6E-9703-2CBAA8DBF4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4120493-6EB4-4D7D-B7EB-8B15B554F49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AA597175-E8D2-4F98-BDCE-7D1239F3F7D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D1A483D3-5BE4-4437-B7A6-04F1EBD0CD3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BB1FEFAF-EF9F-4AE8-8A8F-A7CB2DF39C3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B63211C4-68E3-43E3-A6AC-CECCF27B4B1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27D4A845-8518-46DC-AE1A-56E6C06F6D2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B646B76-F236-40D9-8899-C683C82A1F4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E3190576-EBFD-4424-8253-3EDD5707640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A62D9B11-8BFC-4DBD-87F7-A4AA66FFB2D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9CD26303-3C29-4DE0-8932-8A88CF88D97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AF25E2E-0834-442C-B582-A03DA802BA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18E3037-1185-4BC0-A941-B82C5DF1D7A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91BAB41E-756E-49DB-8D30-820B3DA8F93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DAF3F371-90AA-443C-B3C4-7991FEF1EE5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A4FAE017-C79B-4D78-BD21-93E87F0EA64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E9865569-14C7-4446-BE3D-58F9619CB95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06440CE1-AA8B-4437-AA45-B8EAAB983F6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6530E779-CFF3-4424-8637-78458EEC2A2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FB8D1CA7-5991-42F5-9CD6-6503D8F9E3E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14008C14-A8E1-40D9-8E48-19E373B0400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836CD5B1-C8ED-4D0F-AF5B-1CB27AD0FA7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01643D8E-802C-4515-8E37-8F3F672346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917E5BA-7EEA-4181-BB88-42511F37E18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05565F88-F7A5-468B-8767-613AAC88C68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4016E74-3DF9-4576-9502-F0AFE1B2444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FA44C29A-32C9-445C-80FB-1CA6A9E82E0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24380C48-3756-4206-8D5E-B66B8919355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A3947E62-A56D-4872-B0CB-D0287EFC286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AFB0EF2F-7C87-499F-ABB9-F1127EB7D2D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9EAADA49-4C84-4B34-8DAB-DCEF227A609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543E31EA-0C0C-4B0E-B015-F1FA7E59CA7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BA6D3A2E-80C4-4B8B-89F4-D00E25295F1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4BCA4E89-CA18-470D-82AE-4A1AB633D9A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D15658-E611-48F0-AB14-05AACDE7F6C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6F243872-D303-44EE-8B64-085A1972E20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1F0B4D74-FDD8-4FA1-BF82-5FB65601ABF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57DCB9DB-7C1A-4976-9529-BD57AC00EB5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CF7CABE-5E59-4796-808C-4C1D7DA0CBD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8E1A5208-8C83-49FF-87BF-1D42295F4BE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433DA018-C669-45BE-9552-A3C71FC86DB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3B7B92F7-4AC8-4F4C-9F53-C3E9F8FE455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DB841A33-6694-48FA-B65F-250B564497D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39B0013F-882A-4A56-830F-9935C05C1E6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89022E59-297D-4BA3-9417-5F8D105616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DF2CBE-D4D5-47AC-9983-8A2078E6D62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47C19098-AB42-4236-ABAA-941579A2115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508424E3-CB33-40F5-B0DE-90144F567FA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C25F1C46-493D-4799-9C8A-1DCE9AE773E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CC338AAA-F8C3-41A4-8D8C-E2E295974D6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E0DD1918-B51D-4940-ADEE-89CE004CC6A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8D8069B-7046-4EE4-AE09-B9ECA88DDC9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AD63FB51-30FD-42A9-B6B4-4A18B6BEBEF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AA345FAA-6007-4B67-BB8D-D8CE0CD79B3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29803FBB-5B68-4984-80DA-6E972026A01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FC1FF27D-F963-401F-BBD7-173A1A9718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EDBBF1-D9DB-45A8-968B-F64330C31A4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E4A0A59B-E345-4DD3-9B45-5FE94C97934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4C70ACC-C0FF-4C38-8A1F-76CD0316BDC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AEA6E213-A440-4F6D-8A98-83DC5A4A6E1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29E1456A-7F83-4330-9DC1-2626FDF89EA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4AA83806-18A7-4696-BD84-0BB1A254C6B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143EF751-7A6C-48C9-8020-219A6730DE6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53477380-5354-4B4D-B568-3B5B97907EA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A6C9B96-95EB-4EA0-BA04-C2EBDDB469E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FB2900BD-D380-487A-8E75-D51F0166234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7847D88D-B92B-4D59-A8E4-B94416445C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1060244-5259-4BB3-8BDE-A67071D6CF4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3DECD9FE-C0D3-4BA1-8BC1-1856081B539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12DD4A05-ADA3-4059-9300-600CFEA35D1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6A1CAC80-8B83-46CB-B7E3-22EDF2E669B3}"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C58180FB-0C59-44DA-9E53-97B4AF79C98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C593EFD-F514-4F8B-967D-053290A2BA21}"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0ABF118-27F0-4B7E-948A-2CCB2B5DFDF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B7A7BFB4-1EF2-4B04-8555-B327D6DC62D4}"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E654C662-D331-4BD7-9F34-9C002D5CB3D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671E4737-7E47-4963-B36F-76FA79F12E8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974B93E-C922-48D5-964E-F80AB006CA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A7F4B4-20D6-4D91-91A3-C3C02A6E9A1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898C046D-A6C5-4402-87F2-D4771A24A20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F6E9B4C6-2DDE-4205-B077-4922BF4D5A8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64D1507F-AB1F-4DBE-A692-6E395430F13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C1E48AA2-23F6-47D3-A72A-996DA392972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4770518A-2F0D-4FF4-ABF6-6BF77DF04AE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784EAF07-20C6-454B-9A1D-E3D1C51FF386}"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E8C0BF3D-BC2A-437E-A796-111EF623E057}"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FBCA745-E2D1-4C96-8717-F0F53E35B41E}"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D84642C9-6CC4-4B64-B44A-B4CA141F192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38BB8EE9-BFC6-4878-BB5D-B9EAF598A2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6253C24-08C6-4C93-B488-33565DC533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6F211F2-8BF5-4CAB-8F10-D4D3BB19AA0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6A787641-2200-47C7-8DDA-46F0FA31D55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9AC1FE0-504A-41B0-8AA5-A736F437EA9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F45A2FC9-E67A-4EF4-A31E-056A77B1D1C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4CBB0DF8-92B8-4928-B76A-BA0EA4ECECC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760AAFC7-D790-44B4-90F4-4C56381DB108}"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2606ECDC-33BD-40C9-8010-CF99314BDA8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D8F05971-CF9D-44FB-98EF-B140C31139C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509AA234-7B93-42DA-A831-439CF4F0BC41}"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DCC780C5-2827-411A-809F-0207D062470C}"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4DAAECC6-814F-421D-BB16-BA43C46EB2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9BBF7F6-05B6-4670-974A-598FFBBBBE76}"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2DB06681-39A2-4726-B92D-3614EBD4BC1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5F3EA7FB-CE1F-44E1-B8B0-D727D52E5A7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970B0073-FDF3-4234-9904-CFE01CBC7C5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CE6F69D-CAAF-4513-A426-ED912B34D54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A9ED843A-7D43-4AE9-9898-5469673776EE}"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612421CC-3C59-49F7-8C70-4DBB1D3424D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8AD7EB49-AB94-43A7-A3FD-D60ECAC62E9F}"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72B99BC3-359A-49AF-A9C8-F9D62AD1C8F9}"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1EE57CF7-092C-42B8-9836-4ACF3991CCC1}"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79DE29DD-CB84-484F-8D80-F0E5505132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48E889E-890F-4A24-A9EC-DAB18B238E42}"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4FD74711-54DD-4FD4-90E1-107E372F527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88C97D22-D769-4F7C-9D92-700AA4D349EF}"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3071B2F9-1256-41CD-A6F6-5D7F0CFBD910}"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2A9077A0-CE65-422E-B0F7-0618FA56C821}"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B33C2EAB-F631-4894-BA14-187CDD9BF594}"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68E895D-EEF2-4C96-B032-CF0C1FA89AC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DD47FFDE-5D02-49C5-9C3B-4FAD7F038EEF}"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05F3DADC-7D34-43A7-9B89-EED5D46391A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0498F24C-C11A-44F4-A2E2-3FED175BDEC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1267C90C-1465-47F2-BDD9-4A23794498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B61764C-C275-4CF0-A654-80D18609B0B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68D9E667-748A-45D5-A2CD-A2D29B4D619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63242912-88FE-4874-AB13-FAAC210973C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EFA883FA-2396-4C84-A823-4561786C0F4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30493F8C-A0C4-4AE9-AC1F-6CF74960C0FE}"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4DCB2037-09DD-435E-902E-C4065274D934}"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92D3827E-4F30-4543-B0DE-F2CC33AA6784}"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156CC68F-8D8C-41F0-8923-F4B610586A92}"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E6C0CDDE-6101-4D27-AFF7-1676F85994E8}"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42C4A18C-8640-42F1-BC59-8C798E5A1828}"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5B57AB8D-3E45-41C2-947F-3B1591FBC7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3149A4C-6C5E-4551-8BA0-DD6F6B7264B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D53F7698-4046-4ABE-BAB5-15FA52E36770}"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4652DA02-0BE3-4540-A97D-B0B2B29D8DE9}"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75AEEE33-2AA6-4EB6-9CF1-E22A6FB9585A}"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5206370-A3AA-4264-8BFC-C36A3A4045F4}"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34D8D9F6-4710-4F4F-9B53-EBE62A6AC9EA}"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89E1583-783C-41F5-B07F-62CD12503C0F}"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8AAD6D7D-1546-45A3-8DD2-27DC5DB78A44}"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06BFC623-4448-4A0F-A6B9-F232E2B4623B}"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7BBD32AE-2F61-4429-87FD-9CE1082E08F8}"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E22C23F-E436-41DB-86BB-3F6BA858F1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E43B2FE1-B5B5-4B6B-B284-187AC78E58B2}"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4BB4BA16-8EEC-4470-AB5A-93F0C4B058A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94CAD1B3-8005-4330-A65B-26E7352AECE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D0B50171-18B8-4300-81F3-7A83E2970EBC}"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CBF69378-D769-46AE-8E9B-9EC332F9F11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1F499618-5340-4D1E-9495-8638E9B483F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1919CB50-3FC6-40EE-8118-C5151C76B51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07BFF89F-7F6B-4B84-B3BD-835B0595D62F}"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C3DA0F78-5510-4C83-9FFA-B7844A9E50BA}"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76D476F7-F624-443E-816F-74A30A2E669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CD9FE9BE-223A-4604-9432-D78A26E5B9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6D506A20-C00D-40A9-9CF0-43CA5A0AEB5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04D75BDF-CCCB-4CD6-A1D5-E6D7A66E8B61}"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59D8AE4F-58F3-416B-88BF-510021487121}"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ABCA3CFA-8DB8-48A1-ABEC-BAA64E18EBA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66DAC59F-9894-49E5-A560-6BF4818EA72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8AB0AE34-1DC4-4CB0-8105-58E4244A0896}"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E2D6C53A-01C8-43FC-9EB1-54C6C3202757}"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415DA04E-F7A9-479D-9BB9-385BF20A3D9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7BD50016-F262-4904-A43F-90504B086177}"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8B8F18DF-DF9F-4342-B84C-AA306AEFA63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8D626F17-913F-424D-8CC1-2768864CA4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0D91A5-8B91-4AA0-BBE2-16E97E21B98C}"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B8F3C48C-7E70-4D40-80D0-C061D5FE8EE1}"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DBBD2A07-2007-4400-8684-AAA1868DA7D5}"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E1A7045C-CC7A-46DA-A73B-FEEC0DFCC730}"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644FC579-4DFB-43AF-9D00-3925A2164D7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28AD6E74-ED1A-4129-8155-C02BC91B817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C847D50F-F73B-4EA1-8D47-DEBCF5BAE3F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AE0BFF85-B386-4876-AA40-E611BE27E88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BABF0245-CC8C-4DB2-9B91-ED34E0A35E53}"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04CEE79D-71F4-47DD-A527-E57F022ABD9B}"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59B6B8EC-73BB-4013-B011-C575571B46D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763BD50-B663-425C-9BE0-D619BE0F01C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3E6B9CDC-B8FC-41DE-9366-B00CB91F580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087950E0-126B-4B00-95BE-430BF232398A}"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132E9587-CD60-4700-A773-03AF068528F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98E38E42-FAB5-462A-9FAD-2BCBC657197A}"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1579F113-8047-4D26-AC70-D477A5D9646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DB0D0C15-DCE1-491B-9C85-F1201B45A21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5681B58C-9ED5-46BD-9BA7-BA7BD359920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B551971E-835A-4B36-8B6A-CF4D002C5B5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07FC5E7E-251D-4F23-B5AA-56062D5141C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E19E8F6D-64E6-4B6C-A716-2F1A65233BB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AA78EF6-454F-4A8A-9E32-76B0948B0E2B}"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2F732F29-2B2E-4DCD-ACD6-FF4F4F2CB54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58AA1255-7AE8-41DC-9D1D-6137C9E3975D}"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BDAD7286-774E-457D-B487-DB5978F09C2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7DAECC57-0B96-45BB-9DBF-5BF21EE67F0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CDF536A7-22D1-4098-99E1-94235B76BF6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8D5A574A-BF7E-4218-B392-CCD6BE1E00D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AEA52A3D-CB0E-4BC1-9A24-8723C3045ECF}"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EDE5134C-CDD3-45C0-9039-3D3621E0FEEB}"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88EAB00B-6D1B-4556-8B69-40DC22F8459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F28CE00A-108F-4DFD-84B1-664E66535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870B970-63C0-4047-9654-0560A75199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4E31BBB-A328-47CE-B6FF-685D5099B22F}"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7BD04BF0-7687-4EDF-AD2E-F534F743C507}"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F367D891-AD3F-4C82-9B84-F7392300DC8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9EE123DF-01FB-441C-8C8F-852EFA2C1A0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B8F7FE3-6D9B-4103-A9CA-D59D4980277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59D96455-2040-4A02-9F44-68C7DD7627F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D3669669-D9E9-4C38-AD29-D63C97F8481B}"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257F4EF7-08A2-48A5-BEF3-4F7D5A7BC4D5}"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1A169FC6-3564-42B4-B50D-80E02C4FAD4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B20364E7-E4EC-46CB-B918-D143E6D0621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E1D3C96D-CBC5-444F-8F17-8DFE504B957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E1250E4-EEF2-4DD2-B461-137F99E46C79}"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7C73EC08-F939-482C-BBD1-BCCEE1E4C77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D80C70CF-8464-44FA-91A5-EEC6E6F3A0D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1C933E2B-C2E7-4FC8-9B67-187100AF359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AC0DF049-4E08-4CDA-B9A0-342D1AE01C3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8DCA51DA-74D4-49A4-8F17-906C031D2F6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25832DFF-0168-4F23-AEE1-6C48CB7332D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375D2DC1-DA5A-4A51-8113-62779610B1E7}"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2FEAB67B-B726-4C7E-BB4E-29CA192537C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9B83E6C3-12CD-4B2A-9581-3D01F62C132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E7F2E3CC-F0A9-43B4-93CA-C91209333F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5EF76A7-8A73-46E2-A33E-7BE4C55FBF7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D977C96F-0B24-4341-9D80-3ECEAEB5BBA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6A31631C-CB20-40B9-BF45-F02E5860FAD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448C1A8B-B733-4B2F-84C0-09A423AF9627}"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7372E39-C1F6-4CFC-AEA2-B4C36BCC9A6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F59DCB04-F908-4B88-9635-2B942AEF6FF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1B719A20-BBDC-4C78-AB5B-D6F1518218E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6436A641-8D2A-49C6-AAC4-4B00B1BB314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BAC2D1CF-17B7-47B1-BFAC-678A6225A8B2}"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05DFA7F5-3FE9-47BE-913A-3A93BB68DB4D}"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3241EEBB-F133-466C-916C-C619FD4186D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D02E309-CA85-4F74-A948-1E37DD714C24}"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1C481C48-EDFA-4412-B1F0-BD49CEEF843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B0A41244-2F2A-473E-A6DC-6E0233BDF0DC}"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EC8966E2-0383-4BA9-BDD7-0B001CEEB2D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38B2DDE-6BFE-440C-B43E-49B33FDA93A8}"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CB106CB-F21D-4D70-B7A5-C16D82AAC85E}"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30D7AA6-813B-4D6A-B266-7347345EC3A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82732FB-28F9-4CF4-A0BA-34DED4DD9ABB}"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44ED321A-1F22-4403-A513-02BCDFF715A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EB99C353-297F-441B-B1E6-B1E0A732EFF5}"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E3E4478-A298-4D57-B527-71996967861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267B28F-7804-4B26-9F17-0CA29557C2B3}"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8F77385-19D9-45D8-AAC5-A7148E3DC17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EA38538-0926-4168-B8E9-1B8542EACC0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5BCB5CB-CA8F-4FD4-A8AC-5349D0C67CA8}"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EDACAB1F-A76F-4404-B452-B64BCAB06B9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875AD444-88B4-46B0-8BF3-12EE1E83895C}"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363AF035-8C1C-4299-BD21-AD84E900CBCD}"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EC7455A5-3AE7-4999-83C3-AD78D20B5005}"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6A081BC7-F31F-4A66-973E-882F83D91FF8}"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F504935B-4F4F-4D1A-B47B-3D8896100392}"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B4681F3F-E9EC-413C-A365-14EC1CFF0E2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F16A48A-D622-4354-B9A7-094A5A07C931}"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E3A6C8A7-5037-4FEF-99E9-375BBC73DFB9}"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6AFAE09C-DFB7-4FE6-B5B6-0B0295406B2B}"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67666D77-C04C-48F0-B5FB-13896B6661FD}"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0DFF1501-FBDD-4776-B88D-5FB95644F9D0}"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7B66A351-78DC-4C14-AFAB-741A3719F592}"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872406AB-F138-419C-800A-67089C07FC0A}"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92769FEE-61F5-43F2-9FA1-6B06CEAC2AA1}"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F79006FA-E22E-49C1-A514-EC905BFBDA1D}"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27B27C61-393E-4928-9B58-756B1BF769FA}"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C6EDA038-2735-4F95-9E65-811BBA6E9E4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776E9BF-5991-4BF2-9188-A917B1EFC2B9}"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F273F0C6-204B-436B-A6F5-8B79C8C1697B}"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BBBE2298-23C7-44D0-A0B0-C042387005BD}"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CB048D07-DB78-4B70-A5A6-79DC78CFEC0D}"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657494FF-E2C2-4A5A-A73B-62650F8C6686}"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9261B3A5-EA8C-4B01-9249-94040BF53148}"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91F9C6FC-1966-4D32-A7CB-7948EC5581BA}"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2B341ABA-778B-4660-9E29-46B27F47F988}"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CB7403C4-13E7-45FF-9D73-87FB53A2A299}"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E654DCE2-367D-4C0E-9EB5-BB606DFCA767}"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2309D918-869F-456E-A409-EF0C6A23FD2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4CB65C7-2BC0-4094-A439-E128EC04E411}"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37C3F575-78D8-416B-BC98-2D30AFBD9180}"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BA0F18B7-911F-43B6-B6C0-B4E242356B78}"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EE3C2BBC-FFBA-4669-A6E0-160A72CB5638}"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D7A56EE2-58A6-41F6-B979-4BCBF90E54BF}"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AB0998C9-1587-4F98-A7F2-4CB9012A2C0D}"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478C1958-E56E-4B6A-8D64-5816CD6FC5C9}"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13F5649-B563-443D-8737-65F326B3FD20}"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1888E28C-23AD-4C05-A9FE-999BCFBC759C}"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2D8069CF-2171-4B6F-88AE-AC2B6FD2E32B}"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B0A0CCAE-360F-48A9-8E5C-7C559913722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4512C70-593D-47FA-88E4-A5C5F4F35E4A}"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02F1C352-94FF-4214-B24B-E8B731F68777}"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D495EEDC-A859-487D-8C9B-E14C0938E2A6}"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DA2EF2BC-1F93-412E-823B-28AF4F5D0E96}"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56EA2735-8F97-4E7F-B885-7E992870F599}"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BF16FEBF-8F0D-4C86-8AFC-6433B5E25A4E}"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1938DDB1-A83A-42E9-874C-D2276ECB274E}"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5DE0E5E8-D24B-453A-867F-F453BE7D3224}"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4A653E6B-5D16-4750-9570-4F1FD5F11F77}"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72F055DE-11B4-449A-B037-68C5AE844184}"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FD1B4434-5F3F-4AED-B8CF-F760BE6DA68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8219B4-633D-4F81-9D94-1BF9FCE5DEF1}"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25538430-C3B8-4863-A61C-F6E95B790296}"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8BBAFD91-6728-44AF-AE17-E56575AA76B0}"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A7F4FBBB-47B5-49B9-9EA6-F545E8DCF923}"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B430BAB4-D91C-4B2E-99C4-A99C5A80FDA1}"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8973916D-1D46-441F-A458-85572BFB5EEE}"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FABDAEAC-7165-4B3E-A87A-45DE059E482E}"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BBC59CC0-5613-4F44-8410-2847DFC3E883}"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BD84EBA2-3396-4D04-BF2B-76161B729061}"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A35E01C6-34E7-4FD5-B5DD-9C5FEC8704F7}"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6E04D48E-41A0-452D-A1E3-AD727F4830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40DDB44-D96E-4E77-9599-9D4D9BF403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B4ABE9B-9A16-4376-8496-C42988EAD3EA}"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EEAF31EE-5072-4641-8716-CB69AA6371C7}"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BC6D3A8-13C2-4C60-B374-0C7E4299E291}"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2B121230-F096-44FC-A6EB-B75079C26FB7}"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21DB161A-08DD-4942-8807-75479F1F9D0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CE0A9C94-15EB-4A86-A7BC-99B2937417B2}"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F32FED69-0DEA-46BD-922B-577A220234B2}"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29863DAF-5228-4CA6-BF5D-13AE1383122B}"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64B42C28-E85F-4513-A648-BF0CF2F05C5A}"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3CA07ECF-FFAA-4CF5-81DB-04F48AAF1B5A}"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43E26CF7-2EF1-4D3A-AA7C-9EF87240100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FCA2D95-B057-464E-A3A6-D98A66F92293}"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682764E8-B876-45FE-A92A-3BB93DC74E9A}"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5B921259-EDDF-4C5F-BB18-C4EEA541E6AA}"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B4F10BB8-8798-4E1F-B2FA-9C129903A90E}"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794DD04-16EA-4304-971F-08DC97E581B8}"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88576EB4-39CA-4D3F-A947-0AA52B55D0EB}"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6A4D725C-78B8-4B2C-B1C2-93678DDBCA14}"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D9E88AC2-B1DB-48B9-89AD-CF6B6F825BD6}"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28D84115-BAD0-4E17-B751-D61FDAA11CC7}"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D42F6F69-29C7-4E83-A2B6-B3374BAC7380}"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19AF28FD-2895-4149-8D4F-38054CEDA8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08CD946-B3F0-4EA1-955A-A480CC00272A}"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AE163327-6B15-414C-AF63-6F848EB3282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ACA1B3CC-3806-4EE5-9273-D1700FC9011C}"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CF9DFC2C-22F6-4DB3-B9CC-EE03829F1FFB}"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10F65476-5C55-4DAC-A5BD-604A362133E7}"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6B2C2285-6DBA-47AA-B768-E8341F730B8C}"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0F036F4B-4D1F-4517-AD14-45DEF19DD581}"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71B4CA42-178A-4652-BB88-061ED79940C1}"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CF9A7F79-C4E6-4E30-A0AF-DA62B0B9E967}"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04A51EB2-9FC4-46E9-A06A-58FDA98EF86F}"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45EC67FE-AD05-4F87-A3EA-4BE10EE3DB4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34B980B-7EC7-49AE-8F3C-0FE5732858EE}"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31DF6A99-BE1E-4C7D-94C1-156706130E52}"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C875C770-FEAE-444D-A9B7-A5B728F40A78}"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CEC3B0EE-9544-44BB-94DD-08951A923A12}"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E16750F5-2F44-48A4-9D97-E353FB4A9977}"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16584914-23CD-4644-8C5C-1CF71020A2A4}"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8E3F8EF-4E9A-4323-BCAA-4899F6402282}"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A003525F-42EC-4251-8640-AA1456E5FFB4}"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67C6F8D3-C3DC-4782-A978-14627582D72F}"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0B93D7A1-C5AE-4B9B-8EC0-DFA862C7C970}"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916795EB-E7DC-43A5-A0B9-8D399C70A17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147CB42-C35C-48EF-B429-BBA0E69B94EC}"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8DDCBE92-0A7A-46F4-AC20-37C8B99E0428}"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BCF8B44C-9B05-470F-8677-BA12A53BEDFE}"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433867E2-5A55-445F-86C2-31C7FE0997A9}"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57B63AB6-FC80-466E-86DC-9B3C1EF7AAC7}"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A86399EE-C89D-43B5-A3F2-8CDDD6589309}"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5A4B08B6-FBC2-40F8-930D-C3D658704524}"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1DB00CD5-0943-4D95-BCE8-677FCBBF2E93}"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5D131AB6-F53A-4749-A3A4-69A0637ACECF}"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868E161-1181-4FE4-B04E-FF3CCBFCD643}"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93D27906-68EC-44B3-BF9E-14B66A595DF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4C44751-F1BE-4085-BCF8-E878728A0F70}"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266A79AB-D125-4A26-9502-E8EF50A5BD56}"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708806B0-BD20-4072-BC8E-0A77FACD3B46}"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9BDBD341-6A47-413F-B6A9-5E6347A52E23}"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034672CD-F916-4911-9D73-E2207CAE1020}"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21B2474D-8B8A-4811-A044-4F66CC1FE060}"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A8BF02EB-ADB1-43E6-80DA-F99E8580C590}"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A8B2C1FF-87E3-4A15-B845-E973B139E3B4}"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48A60762-C64E-4086-922B-1999B455EA3E}"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6AA1A231-93AB-4B93-B142-A4E0B3FF1EF3}"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9CBAB511-5253-4D3C-859F-96050623F7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E774EC5-5CBF-4949-ADB0-D2C920CD2F86}"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51C99560-0F0E-4C28-898C-1604C4FD6CFE}"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1D39A825-F0B4-49A0-9E7E-69ED24E66192}"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27347A1C-0DD9-45E9-9C5A-11093EC95BD7}"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70FDA831-26C7-41A0-A225-0D3B53EDF192}"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B5400DEE-6FB1-4F9D-B658-5B70D227757D}"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28EC320E-0F04-4010-A796-FB156407E7DB}"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3316687F-399E-462C-BFC8-2DEE2E15DC51}"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ECAA775D-6982-4019-91F2-71A0566A3CB7}"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ECDBBC26-B908-4FD2-BDE1-B2A08C4BC2C7}"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B117B302-ED78-42B4-8A71-8DF220F7785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02FD675-3717-400A-9730-5425525455CA}"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06C7FAF8-3E4F-4DE5-9B31-BFA844DD970F}"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07011234-627C-4FCA-8298-29CBDF0760EA}"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62B72F17-817D-4580-98AE-219510721F76}"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7909B9A3-B91C-4681-881D-12BDE4912A0C}"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F7518A8D-7A38-487E-A1F9-D42695E84D29}"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C450CC2C-C49E-4E66-B05C-EFFCB4CACFCF}"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FFD90685-658F-49C6-A957-0FC1DFC6F567}"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4D9D6407-79FA-4FF1-AB4E-661BCAA7B72F}"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2E999D2B-66A7-42FE-A9E0-D65368E536D0}"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070E2D28-5B3F-445A-A2D2-1B5B9DF7A95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0CE1534-5547-41FD-8658-5D48A95B4BC2}"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20BF7426-149E-480E-8A3B-09882355958D}"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70557B26-64A4-4932-A1A8-F5C734DAAB3F}"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4A89231C-C851-4573-AE87-4291D147D0CC}"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AD11CD8C-675A-4EC7-8F4C-4FC348DEF66F}"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964C3F42-3BE0-44ED-ABF2-B02D98082B2F}"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1AC6DBBE-8D39-445D-BAF6-FCA3BD056AF2}"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2A577E8F-2CA8-4EB6-BF2E-0F4ADFF6227A}"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D452C278-273E-40F9-99B9-778AC20660EC}"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B12D07EF-F776-4AFA-8E23-7AB16DC2834B}"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34241C08-0874-40BD-B36C-DD0E98D4D5B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162DC509-80A3-42B8-8A2F-E40FE9352109}"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BB2F0B0A-51C3-4CC5-A875-AA4339765EFB}"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785CD94B-9094-459C-9EFA-BFCE8F4EE863}"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36A308BB-723A-49AA-9286-F8D4A9D15278}"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B7A6ABCF-43FF-49FA-B889-8D40EFFB1A51}"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089A77BA-78EB-4745-A703-ED7320CA8322}"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1AFFCE9F-0E29-4C54-84E2-3594B801A18A}"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97FAA156-CF9F-475E-918C-52CEBA5FE89B}"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CC116AEC-163C-497F-B472-D0FD7E0D4726}"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AE21CFDF-B608-4A5B-BBD3-C666C6BF2DDE}"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94529069-4522-47AF-8603-567C6CE192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99B01C5-D0BA-4C67-8E17-E226B30D6E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BB61015-5FB4-4C7A-90B2-02A022CAD4BA}"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4BC8C8CC-380E-4AD5-9A17-1D8BBF2C84E9}"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136F6926-0D61-4DC3-AE20-40740A34560A}"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A5FB6105-1876-42EA-9AF6-CC9DE129F340}"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18A28787-2091-49DB-AC12-FCD32A9BD623}"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9ACADF00-4B54-45DC-93FE-317844FB5BD2}"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CC2E4DCB-D64D-479D-ACFC-A9000D02F944}"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31FB1C0B-0A47-4D5E-A180-B9208EDD7E54}"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F3007EFC-367D-4872-9A59-AB67CA77B1EC}"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E12E48A5-37DC-4B9E-80E5-5800C4F2FEAC}"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2572E8B6-1618-4E0A-80BA-ACD588AB66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1569BB-8EF8-4BBF-BE29-7AD565F65231}"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299DD7F0-A11B-42E0-B469-0EA428D84F2A}"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9681974A-D7D0-4373-BBD3-7986A302BCFA}"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FD843C55-D681-4FB3-BA29-CBCD0A2FF8A6}"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D79A47FA-9359-494C-83BF-5A3BB5853623}"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99AC320F-D193-4A54-BA76-0CBA25D00C82}"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3614AF89-9627-4A3E-BB20-67BDD2E8A4BB}"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E80879BC-8F92-479B-90A0-87094D4152E2}"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01B0EAE4-CE66-414B-AC4A-124962541A93}"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7A79C575-3747-48ED-A051-22CD8C049FA6}"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7E0076DB-4387-423F-9C23-296C13CFDF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95CD57A-5148-4183-A704-E84EC461CA8F}"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3134122B-88FA-4BCB-BACE-76A2DE20DEDD}"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ABA64081-DBEE-482C-B2A6-4627E547432D}"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CFD9761A-77B7-410E-957D-E034E77A1169}"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95B699DA-AAA3-4CB8-A803-33F1A0E7E806}"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F8ED7657-CBB2-47B4-9321-6F1149A67326}"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205CF2F-0C63-4037-84F8-F9673503FFE2}"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735846CF-1F28-4B79-BF67-E8392DC15270}"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11C77A67-DDC7-4CCB-864E-C5C995C78B37}"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17121281-382D-474F-85E3-3DDC2387E6D2}"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E8A3BB16-5938-497D-B426-5BAA925E75F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CB608ED-FB7D-4607-B116-668AB713A60F}"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3DE15294-2DFF-44EF-97F5-5345CE74BEDE}"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57A6DB87-3F22-4024-89B9-AAF168D280BA}"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7006F707-B74C-4242-9055-6C1D8BCB2728}"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8746C850-E76A-4F18-9877-D882BA9D18D1}"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E17B2545-10BD-4F27-AD49-33689D138543}"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B19D8B7B-1D1C-46E5-A39A-9DC042ED4D48}"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C85C2BFA-0998-4E43-B97C-A68C39B4E4B0}"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4FC0ED7B-3408-4C30-AE8B-089BCCADA1CB}"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E2B4C5AC-79D9-4157-9B4F-2264954F2949}"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037C51B7-DFC2-489C-A166-BBC6E20C6EB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7C7A509-07A2-4948-B772-875379FD016E}"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D0AE0493-FC21-437C-815C-D066D28C92ED}"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4B6A846C-9361-4177-AFE1-9FDB5198E828}"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B51121E8-411D-4591-8340-42CC5152A7FE}"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5481CC33-A953-4DFA-9041-E1B1AAE9F664}"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28A9CBC3-95DD-4509-BCB0-44D6041D2A9C}"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0A200CF1-64B0-47FF-9739-5CB0E8253F8E}"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A9545522-C414-47C4-878E-D6AC1136D413}"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B5337855-1BA3-4287-BC5C-A0668588AA75}"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55AD18A7-560C-4EB7-B5C1-8A156919F526}"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7112245C-83B0-41FA-894C-284AF47CBE2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E614ADC8-11A7-4AE7-BCD4-42B6B64F2530}"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9B24FB64-5B05-4576-80D5-25F27FA7F140}"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C5849B17-8325-482B-9DBC-B9362598D569}"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AF6AFA39-9FBA-477F-9A7C-EBDB47A7B075}"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37819F07-B0EB-40EE-B8AE-509C7D8DBD90}"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E81F4EEF-2F97-4205-AD52-7F4CD97235F8}"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F7D5BAA8-4535-4F98-9E11-D7AB55C3A1CD}"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A8668109-DEF0-4834-BF82-84CE4C81FBED}"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B1EB4EAF-5E87-419B-961A-F5D96E3A8E5F}"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D7265CEC-CDEC-4331-B446-9CB919E79A7C}"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E5FA1473-0712-4C6C-839B-764A481FDF7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A8805821-28CE-4BD0-B27F-E43888010BBB}"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569B8C23-1B64-409B-8A0B-3998E0E2426B}"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6CD899AF-AEBA-49BA-A82C-AC3C636A60C5}"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AC0D590F-E722-4E50-8A19-480A2D07FC41}"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FB5CEEFF-6578-4B0B-B3C9-DD3D3C964D7A}"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3C8F01C6-ED0A-4949-928A-9C6DFD7AC61A}"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755E9D5C-1CE8-4079-9BA4-4CF310E91405}"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0666B3A2-2E6B-4AB6-A68D-B44A41872B79}"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42C3834A-6637-4940-B425-60F4E5645347}"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3C0463DA-8898-451F-BFB3-63B65C6573FF}"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4F50FFF2-711A-4C7D-989C-78A064275DD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1B09A8A-6EAC-4E15-A932-536E8D75EB22}"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4E89DA91-B857-4DAA-B732-E9E1E7EF2643}"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1FC182FD-D736-4D19-860A-93DBC306BE2C}"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46D7FCFE-B88A-48CA-9A35-7D90F3E3EF82}"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98806AEF-0421-4B5E-9FF0-343C93EBBAA9}"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ABA3083E-AA5C-47C3-BA08-27B1B7B452F2}"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EF82A3B0-06D4-4A57-B72D-28DDB29052CB}"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A1486B53-1D7D-490B-9FC8-2E30DC29EDC7}"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292D60B3-BA0D-4071-8FB9-3B3FB9C28483}"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806EEB3D-9EED-45FB-8E78-192CDC1CE041}"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417207FD-6C94-464D-893F-D66CA9083E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3D2066D-AEC2-4158-89DF-A0EC99D5AB15}"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7D507D01-FACF-4CEE-BBF6-AFD5F88768E3}"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7D168843-6C62-466B-B256-720818D2B14A}"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EE9E20CF-3092-4201-B4CF-D3649D6699D9}"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91077E65-0FEB-4CE1-ADD9-15053EFB036F}"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E2DF30D9-BF31-4B61-A4A7-D1BC896D009F}"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4168BBAC-72A0-4EF7-BDFB-705985366265}"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BFD95F3A-2BF3-462F-B9EB-A4C732AC7E1C}"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E72334E4-60FC-4EBC-8286-0B44DCF8AF7B}"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BD371B85-7944-47C3-BB72-407896C2CFAD}"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B72B285C-F95D-48F1-AA66-17E3C838DF8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B376024-2E7E-4FC5-A155-9E2E8EDA0C80}"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762100C0-A496-417D-BBC1-92F6667B09E9}"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1F4E7991-338F-4CDB-94D6-13667A2E28F0}"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B96A77F-2A9E-4A26-9065-1EF7613E3D9C}"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83201E4B-3446-4A1F-A408-D2E641AF8B26}"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9B2A8843-E615-45D8-B60D-E025CAF8D9BF}"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BDA7C05E-2CFA-4558-99C1-15430FAF267B}"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67F00F5D-D9A3-4C19-8421-00ABEAB32CA9}"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4B528CA8-00BA-4B38-B48A-A519F8F10664}"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DF492629-95E0-436D-9603-24765F72C49C}"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E9D1E171-F7CF-4C1D-8D52-C0F6C0411C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D9F66AD-E197-4CE0-B107-955F996426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38F3B41-7858-4AF8-8680-E7CD4E51B93D}"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BF356EBE-F7F0-4754-8D7D-4988CF241EEC}"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90430E21-4459-4ABC-A796-CED93DB3C4FE}"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B70B2B31-10CA-4A37-B2F5-1AD77EEB43C0}"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BD1844B-1713-4285-9D14-BD4870A5A4BC}"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A9A9C010-8BAA-42C5-B624-C090063FE1D5}"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0D84BB48-11EF-483C-8E88-0360DAB5830A}"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AA21A8D8-461F-43E1-BAB5-F8177E8AC29C}"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F8F3D19A-2045-4A58-8F28-AA9A1E364FCA}"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D0F20204-9C74-4B5F-A36F-CF7B2870E808}"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AC41845C-4B7C-4F18-8EA0-5499E5347AE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164FFE9-DE18-4D4A-8C2E-B85EECA34481}"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5215B52-F2B6-407E-A23A-1BD21EE71AB0}"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A8C06978-E5D5-45F6-B48E-6E23F2732AD1}"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E05FECA1-C6DB-4A13-958D-91F0C61E5FC3}"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F8EA2626-9E7B-4F87-870F-6FE384A3769C}"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CDDAACED-0CC4-419D-850A-012EB1A38500}"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906C54AE-1734-40E3-A5D4-EDE2AD2CD876}"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906A73D6-1078-4698-85FE-CF8D14816F69}"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99D9CE53-E85F-4761-92C7-41159B9CE239}"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F79E35ED-3AFD-4CDD-A576-1BA79F13976D}"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64E4EE6F-E4B6-4016-ADFF-57B7E92EAB2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813CE1C9-6221-44A5-88CB-1EE3641F74DA}"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C451F27F-769B-4C3F-A123-A56DFD945531}"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85ECE660-C4F9-4ED3-9CC5-DC76467A0EC2}"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CE61C4A9-B0F2-4574-8ABC-7E99B1AFF2EB}"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4A4F0629-53CC-4C7E-9D73-9D42BF29335D}"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838305F4-B632-463F-B881-558021D6C3AC}"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4601D198-A73E-4993-A6F6-E70676988C8E}"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571D8003-3143-4985-B6C8-C0A635ED7258}"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08E2BF04-5452-4C7D-ACB3-1CA66BC38989}"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E982AF42-EF3E-4E58-85BA-665BA5167D5A}"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997C78F6-722B-4BDC-BDE5-6A0496DF453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02007BF-8019-4B47-8860-6884DD2B589C}"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10FA9B9B-C428-45B0-AC4D-15BEF121E39E}"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4925ADBD-FCF8-41DB-AC97-924B92A831BD}"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98CB9CB1-FD21-497E-86D4-BF97EA55A924}"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11570E35-B3D8-4CEC-8DF9-B9CD149C7C55}"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8645B7CE-8906-430E-8BA8-5A67B6C4E5FE}"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8B368356-D0D3-41F0-A084-CACA82FB46D6}"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E3AE1C50-7C89-4BC1-B140-742E69139815}"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7E2BF268-AF4B-40AD-913C-EFC68B5068CF}"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CF3CB152-5D1F-4053-9BFF-4435010BABD7}"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BE6DCFAF-785C-49F4-AD3C-10DD9DF9F47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2B88A4B-8636-45E4-94D9-575DC1F4FAD1}"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DCF7AA0-3CE8-4C17-8A2A-117FF3A42369}"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DF21FEEE-7955-402E-BA7B-B8A4D5E563D8}"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889DC465-D185-4C9C-A91F-DDEFDCA4CDD3}"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EB31751E-5447-4457-B6D5-A06EA6BBA685}"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3E0F96EA-AB66-42AF-A4A0-B7520E1887AA}"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77704D64-D55E-42D2-9667-6905A1798616}"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7364FC9A-4CFA-4128-92D5-1ACCC7601D28}"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560DB9B4-71F7-4A59-930B-FA67AC5448A4}"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C45104D4-5A6F-46C3-A009-3645C50869D2}"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77B71F42-1316-40FF-AB7C-D82AC8CBF69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E5C9243-F1A9-4161-8D1E-568C40800062}"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C5325AA6-25A9-4B03-A546-1115BCFB7A79}"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FD09B2BE-244F-4DBC-BB2A-18BC9342966B}"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17BE99CE-9F4E-47D4-AA3A-AC8611001938}"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736695AC-FD5F-4FF4-A345-3486C88D0BF1}"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EB7B16D9-A858-4340-A9FB-7625F5C3B166}"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43DF1FE5-F73A-4D9D-90D9-B0671B11AC67}"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357912D4-E512-4C75-B39E-7550A7BB983C}"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50E9C2F5-8777-480D-9F98-8A037EB3810C}"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28D8461A-1BB8-474C-88E8-A7EA1DE1947C}"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10500F66-E441-4A7B-B568-A4C6E7F4C91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B2921DB-04EB-4633-962B-44F59ADCDFCC}"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988501FB-2E70-42F6-A6B5-0326AD9501AA}"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482ABEBB-1134-4038-B531-414C93B36959}"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E88511CF-3EEB-4DC6-B173-FA1C8CE3060C}"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D63ED0F8-C5F1-46A2-BF63-8D080913A4AC}"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4DCD1850-70CF-47D4-8E4E-ECEDC1A2BF10}"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09E308D6-AE65-46A6-9883-35977AA4255F}"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6775031A-0AD7-4071-B801-C9E68C602170}"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149A5EAD-8AB8-40A4-A90A-188275EA704D}"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EDEB8DE9-75CF-459C-A907-80244CCA520B}"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4C6F49F1-8E10-48E4-90F5-5A8B9ABAB31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90A35718-092F-4227-992A-B2A948AF485E}"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BF924728-B152-4987-A441-A13946E4D8A8}"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B791D185-C404-4561-A439-2A07C73D369B}"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883EE909-CF62-45AD-A4C1-F1DA75A97FF5}"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AB3CA470-9BAB-43F5-A171-AF4E7F6FFA0B}"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DF75B5C8-10CD-4A14-8F22-FBCCBA46E371}"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654D1BD9-36A2-404A-AC93-2B323CCFCDF9}"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03D1040B-68C9-49CC-BD6D-FE024992B1BC}"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F527944-341B-452A-8501-D38CF9435A4D}"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36E09885-BE16-4DDE-83FC-96F41F58D575}"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6DCD4C1A-C6DF-48DE-84C5-E8C588FB888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0295792-57D3-4F83-8BE6-8C70A1FB51F7}"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803AD50D-0A9C-469D-8E53-1A5595D7DF14}"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F3F91C43-E1B0-4CC3-BFDC-BAF2EE070CCF}"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B52403A1-06CF-4859-A3B2-51AC801BFC5E}"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1313F858-AA08-4ADF-9F4F-34A8A91FAF4E}"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B752AE0A-5FBE-4CD9-8E90-76656CA723C5}"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54C91989-92D2-4382-AACF-DD1199E348BB}"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EA99403F-DD76-478C-80EC-1B9956900606}"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47E7CAB8-3F10-4AF6-AA9C-20578D494D57}"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0761699-611C-4BC8-A76F-DE1B42F7A4F9}"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C31B0B9-407E-4700-8228-9B3DB60102B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B79D67C-FAAA-48F8-ADFB-8FBB331EEA29}"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D2235DEE-EAA1-46E6-8C74-6CD4B3F9A6F3}"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8E598E54-A8EF-472A-90D5-C795826C1B90}"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9CAA92E0-DB04-4890-9828-523DE4168D14}"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EA5D4547-8910-4A22-9384-C002E8A11FD0}"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5A559454-7558-4763-B819-6C0BD031FBB0}"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BF907625-63EA-4AD0-A05F-D259DBAC6485}"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307380BF-C955-429D-8904-F4B80420E360}"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1B8F7BF0-EA5D-47D4-83E7-3320146300DE}"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C5590C64-3F9A-48FD-982D-BAF79FDA850F}"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4F58DD65-09A0-4D87-B3BE-E25F2C8AA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4D1BC9A-8F7F-47D2-B164-79A9967AB9D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B4103C5-870C-4975-8011-9D64A92D729C}"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FD0B6332-908A-49DF-BBE7-1D434D0E7927}"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D6360211-E628-473D-8A3E-74821F42F9D8}"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6F643D91-8B86-4B6E-9D47-873610280C3C}"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93652C31-B747-4D92-A60B-615B1D562ECB}"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437AFDFB-4DEC-4065-8101-304DA990AF73}"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7D855E43-12A0-4DD4-91FE-D61806163F86}"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48F3469C-1D1D-4253-BD0A-6384CEDF6330}"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29BADAFA-8C3B-439E-B764-989141ECF14E}"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CAADE46B-1644-46D4-AE81-17D17E50FD69}"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0B9CCB11-276D-4093-9C06-81145D9DEDF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EEA5876-810E-4C0A-B2C1-D272EA4AB246}"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3AD85E3B-0DE7-487D-B42E-19ACAD4E60EE}"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10EF77D2-2A55-4331-B3F6-A9B2DAC7B28A}"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B4764BB3-8BD0-412D-B2CB-50408AE0F751}"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1FBB8F4-0B07-4722-A514-FEA146ABDF87}"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6D9D5EF0-982B-4925-A6A7-B298562C285C}"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4EBF1180-FC0C-4353-B582-83EC21D76ADC}"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47B4C803-23F2-4840-9244-A68AB5272B0F}"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A06E02A0-CB69-486C-B483-609D1D20DF96}"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BE218362-72D8-4576-B773-476AD6F338A7}"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ED6209DA-4D5D-4E6E-866B-FCBFDE6BDED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C176591-C188-487D-A097-5C13D5D580B1}"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A649060A-F4D1-47C1-94A0-365ABE75C8EA}"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D939C664-FB02-499E-8EFE-1155D7B44AD4}"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DD1DADA5-9ADC-442D-B6D2-46F3277E6A59}"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E07397E7-D37D-488D-B920-BE8873345784}"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AF5D7114-E56F-4621-B779-088913AB188D}"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3C6563D7-F30C-463E-A89E-13622F908F06}"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711694AB-F7B2-4E5C-8E1D-BAAC381F6C95}"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182FA627-9173-4A7F-A83F-6CACDBFF5DBB}"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DF7839BD-C82C-4807-9DFD-0AB3B30B33A4}"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B82BD677-C553-4ED6-8EC0-6BA045DD0B3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B164F09-10A0-4B54-872F-A21AAED7FF5A}"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8632A32A-F613-4227-8D6F-0025DA83B148}"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C3775A43-4767-4723-A8CB-167CCB1CBBEF}"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025A4674-0308-408F-BD54-FD24DF1C7639}"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4DAE6F03-FDF2-42C1-9CCE-D97B3CC47598}"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77FEFC7E-8545-4CB4-9917-4AE85203E395}"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4805D82E-E7C4-428D-9134-A3FD8E73659B}"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B5C33B4D-9F7E-438D-840D-32C7CD8AEB34}"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36E2EDA5-DC31-4E09-9BA6-A1F63A13D225}"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FFDC7131-2DCA-43DC-9164-1516C0316E45}"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8721058B-7D6D-4404-A159-835B8244364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56AEA030-D04A-43AD-A3F1-1CD900E3D3EA}"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AB0B8C49-1182-4AAE-9A5E-BC49FDC9A65F}"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02A046FC-FF03-45B2-9844-D4D6474F3EC1}"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901F89B2-EBF1-4554-9EA0-812114B3081D}"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8B35C7B0-B085-4B93-9B10-116CB6C87EC1}"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E9FEAEA0-3456-4640-9832-27AB05C2475A}"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E99BD867-9EC5-40D1-926B-3F0B07DA82E2}"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4A5BE341-EAA4-4575-B35F-DD4A329150B5}"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BE84EFC4-7852-493F-8BED-DF68E3CF36F4}"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717151D5-92AC-4286-A61F-D429C18D3816}"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7D662BF3-24E9-431E-9CA2-857E5B505F6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B0B3B4F-7D1E-486A-A37F-D63DAD47EC21}"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FD59DF40-79AB-4ACB-AE15-6FB77A6344D8}"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74539216-91EC-4D4E-916B-1B97775E4A1B}"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5B2198FB-C2A9-4D05-9C45-C56116A74527}"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9DF3B9A6-0E89-4920-B6B1-98B9E4DCE20D}"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1F288BD2-8655-4536-A79C-85F832648B38}"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C215D881-01B0-417C-984A-6B7E7600A4B6}"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1959F512-E2F0-4B36-9590-956A2E7167F1}"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EF4C34BB-0631-4800-AAF3-7757C89121C0}"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7023DDB9-C8B8-40A7-AC2E-0F5E626FCFB3}"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2F0D5FB5-386D-41D1-94DA-55C9CE3EC2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D9E78DF-3907-4D14-BC0B-8D0618E1F792}"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10A9FE40-56AE-44B6-91AE-4B81FF44B6A8}"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BD164229-CCA5-4652-B9D7-E00B2598BD01}"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3CEC59CD-F974-4533-A429-90A08A9EEAB6}"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070EC5B2-93CE-41A4-9252-E985D3690CFD}"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B38C5E5D-FEDD-4B27-A937-521EF773AAE3}"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6B303678-2E40-40B6-8F71-CCD2A5859754}"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3EF6DCEE-E5FA-40E0-9D24-572C70154B55}"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20F4579B-BA19-435C-BEF8-C468D6357771}"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3F49E988-8911-492E-AA5D-0C420B16FF7A}"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07B1AD08-2C2F-4FCA-B6E5-77D0E7C1939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E017214-9A37-4350-8780-A98AD605A81A}"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A04EC633-6BE1-45DF-8EEB-14995D49CCE8}"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FFEA5C58-54E5-4AB1-A6BB-CD55B5E49FCB}"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5C981975-B160-4FCC-B9DB-9D9ED7811C43}"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2ACE8B02-530C-45F6-8298-5DFCD121D074}"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EEED8574-F790-49D7-A6CE-D5D56FE29761}"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86708921-707E-43E2-984F-FF6070A0FA9D}"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84259CEA-FBDF-4220-BF73-3E4054C44E64}"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B19B0C9B-5F1E-4854-AA2B-E2E40C0DB155}"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D36436AA-1988-4FEF-9199-1B13CD335CE1}"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E9DB708E-A292-4124-A043-5B44C79F44A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33CC71A8-2049-409E-B6DF-E45EF6731762}"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B6853527-21C3-4B69-817B-291AA9718413}"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FCCD371E-F582-43F3-9272-0538D2B4685F}"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01E74B1D-8A24-431D-896E-7A392A5A1B5A}"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AC7E24CF-7C7A-4399-BDDF-A25E88DD2BC4}"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CAA4DAA4-2295-4850-9D60-2D212317668A}"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A302CE2E-3CE9-46E4-B985-881261257B7F}"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2E494AF3-9B7F-4374-95A4-1DF6E2518163}"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12610846-4FE2-4732-8F62-47068E663132}"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5111B3B2-3587-4E59-A8BA-6A44B5CBF482}"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09EA02B2-B37B-4C17-8458-1EA4C02672A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ACBB387-971B-48F6-9869-6D1E8F2D95A9}"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B8CFB6D6-2B8B-47F2-947A-63030EDF2108}"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D26360E1-2DA1-452C-9CD5-75D1994A7E5E}"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E6134C3A-FDEF-4D7D-8600-18CD0237429D}"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C07193E6-9E27-42B9-9996-D14FF93E9D1F}"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8D7A273A-36CD-4314-AA41-0C63B69D7A78}"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A9E07F93-F3CC-4AFD-8D13-97878B496B69}"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645B5393-47BB-43BF-AB24-5FF8891922C0}"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A9173FD1-C2A8-473E-9408-68A08AFB9EDA}"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007AC634-9E72-4CEE-A3F0-B02EF5F6B32B}"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23948FA3-BDDE-4B80-A0F2-B29F2E0A2E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8C98428-6935-43AA-B1DF-771DBAB670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581B0BAF-19B7-435F-8DB0-2FED30BB45C7}"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51B2F418-D389-4F2A-91C6-26DF20C8E20F}"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076D9F31-146C-4023-B4D3-451BFEBE71A6}"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89CF90B1-6812-4823-89FF-9D055CAECE46}"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760A4387-F9A4-41E6-9C28-1084015E26B0}"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6F99EDBC-C89C-4E07-A069-87E33668E8FB}"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F9F020BE-A7B8-4A08-B407-AAC513F4628C}"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C4AE7339-E123-429B-8B03-C3C25654C3EA}"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C273AD61-0FC0-40E9-B678-844A68FAFA60}"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6AF6FBCA-7A0F-42A2-829B-27AA8787D1B7}"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EF829C7C-2CF7-4337-BD8D-0588D830217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49DED37-7776-4633-8EE5-51FA73B179DD}"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EA5B909F-A252-4A17-96EB-BF5A34162339}"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E16D741B-D28B-4E01-AA22-778117438B8D}"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33182AE9-A4EC-4D99-8611-214B4DA66E77}"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FEBC19F5-7D35-4880-9F90-3C7AEC61A46C}"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679AD968-EB75-4FAE-93BB-233F880B1955}"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0B67106C-AD9D-446E-9533-2B8D6FE40F71}"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572B2DFE-50F5-4AA9-B70C-96C46E3025F4}"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5FA89CAF-8808-49D3-B858-153641AC36D3}"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05A65BE8-1D51-422A-BEFB-E1F7FAFA6B69}"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199490E3-15B8-4B74-874E-E0D95D5D56E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ED10A08-6189-4926-B248-E37D8BD16A44}"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8C379AC8-9AE6-4803-BBCF-7B77797BA6B3}"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1FDF05EC-E96E-4E1A-B9C1-C40C9BCD4F16}"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D4D6F9CC-B4C2-4AB6-82E4-AC9EC1DBBECA}"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1CC47B02-EB63-4059-9550-6C18D15BA4C3}"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D9001610-C95B-4BF8-9514-3D42FC0C383B}"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A5618272-2F9C-4A6B-802F-5A20E5655252}"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7CCDAE91-3C59-4450-B797-4C0DB977926C}"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AE790395-DEA3-4E59-9156-621320C3043E}"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7C1271F4-9F56-4B33-B721-10D3B2F09C64}"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4CB96268-EFC9-4886-BAF9-9A96F01E165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1A52CD0-BAD0-4246-9531-E8C92668F9F5}"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0F22635A-7269-442B-B108-F4D080F3BA22}"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630B2E1B-AEE1-4059-A41D-65EBFE3E2D76}"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2BFC2A09-799A-4BCD-AE8D-EF359D37D0FE}"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BD0181BC-5AD0-4D37-BC99-0524D9B708E4}"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75772288-0122-4D90-A3BE-7DCD82D76F60}"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4EB60B56-DDDC-4636-AD79-486C80F0E56B}"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3AB19C2A-3BF3-4FCB-9D9F-4CCBA91D0D6F}"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8508154F-9806-4E9E-9C77-AC434912F6C2}"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B9DA6B1C-68E2-417F-B37E-8C8B7D35996F}"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3FF8D1D5-E1EE-4248-809A-84FA5F99C1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70EE3A9-4363-4F93-897A-AF25EC60230A}"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5D7C7DCB-18A9-4FE4-BFC1-6A5FABFD61F5}"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8E797091-589D-42A9-AD2C-F9284905CEF6}"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88E497EE-88DB-4381-8632-3622F30D32B0}"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8EE3C058-4AA1-4CC6-A3F2-073C860CEFD9}"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4ED58DE4-8B78-443E-BA07-F5CEDA1710C6}"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5585381B-A9ED-483B-B8C6-845266AF9405}"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79323058-5FEE-45B0-91F3-113E5D0DA994}"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619A74CE-2349-442D-AD66-DB0FBF8C3134}"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2E1D2123-17F4-4302-81C0-3457D8F7EBB6}"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2B84586E-9474-4FB0-8944-01B7612E0C4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227B61CD-AD00-4AFA-B1C8-DE2FB657EDBC}"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C61DB7F1-55A7-408F-B909-4E069F73C0B8}"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5D7232F2-D1EA-4AA9-88C6-26C12E32B448}"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DD1A152F-CC0B-4DE8-A0BC-CBFAEBABE250}"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E2F439B8-AC53-4371-99D8-44550D2FA3F8}"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5A5DE06B-395E-42BC-B075-9E9F42138F57}"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348B45A2-777E-4510-84F3-18F68D24F1A6}"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FBE4A0FD-4A66-4F6C-A7D0-058AB5BE0C0D}"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5598D6E2-50BD-4304-8789-21E530221A06}"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BA6650D9-6765-4A84-BC16-C20A5513734C}"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CD8FDC2D-A5BB-4F46-A746-15404E35B1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06EFFCC3-A6B9-450E-8817-5BBE95A52E5D}"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E27C3A2D-7F8F-48FD-8E15-2B750A67E128}"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84B1DBB4-F325-438C-9900-D79B241CFEC8}"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A853AA3D-292F-4E3C-B762-1DA7F3F327C4}"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9252AEA8-EB74-4E19-93A8-D57D2171A8FE}"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8D0CDE4B-7441-4949-B79F-252047E17EA6}"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D7F9BAF2-D4B4-42FF-A5E6-FE27CD85543B}"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61374562-FA70-41FA-858A-75B605FFC6E9}"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012CE601-5A26-44D8-B18A-AC42AD54345C}"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1DFEDA11-F9A6-4EDB-AF00-B316E8E919BF}"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56B4DF21-0031-41BC-A2A2-DADCFD8026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D1D45CB-E8FE-43FF-9B48-2B9264082EFE}"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17FA3B6C-8569-4723-86C4-79BC2F849B78}"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921B4DB8-413A-4809-9E83-EA99FECCA7C4}"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DF339948-56DD-4959-B7F4-185A01C2D433}"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F97EB951-E107-4F81-A67A-D6E49D9D37DE}"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52C66BD7-760F-4344-89A4-DCC9F9B693D3}"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91B9505F-E268-4436-8725-F0194FC1D65C}"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066B39E8-66D5-415F-A696-D2FE1773FC4A}"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4844E062-1471-4C2E-90C3-E4D6F1F1C769}"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DD1849A2-2EEC-4AD8-9FC1-2A59F0C8734A}"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C5BD0EAE-0A5C-476A-8F8B-D597CB8F405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AB7B58B-CCAB-44F9-8B43-651EDE8ECDBD}"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AE56D5CD-61FD-4A1A-940F-7BCA0EC25CB0}"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B36CED51-DDB4-4EB1-A1ED-24113F9DE42C}"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EE024449-B52B-42F9-82A5-6347EFBC8077}"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0601C077-6619-48EC-8290-7A2F68AC18C2}"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FA757236-80D5-4DAE-BEFB-3C48621A5F5C}"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3E8F0FBE-F4C0-4D1F-95CC-CE54CE23D492}"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C4DF85AA-FB03-4444-B8CC-5F1E88C2319A}"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CD089B7F-0746-4BB4-A778-65ACB282DDAE}"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AEBD2871-020A-48CC-8AE9-53836D802F9D}"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C174951F-05EE-451B-A60F-3851629D9D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67964C2-1AE0-45F0-8E28-8836C56EE3B0}"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478EA779-36FE-43B6-BC32-5289F3E2B5A1}"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272015B1-B95F-4483-B5E9-FA32B6D87723}"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0B5F00A3-51F5-4AFD-9E45-A90D3EF552A9}"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DDCFF356-BCFE-404C-8C4A-993C4FDEB9E9}"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643DBE3E-B0F2-47F8-A336-A7EB7C1DBD29}"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820E2170-B371-4120-9E94-C5384F3B6E21}"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A3C565A5-786E-47CB-A20A-1CC7784BA3E5}"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7269B982-2334-4D4F-B35A-FB1957FF0E79}"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2BEC9381-97C1-4AD7-B903-B2B999E8989C}"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6BF5A70F-0D40-4D45-9479-7BF9AB752A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23652-0EBA-4779-A774-FBA70ACF33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1E3CD-798B-4088-94C5-AA9715865E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6E160-35E2-4FA4-86E4-A58AD8807C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B4644-9565-485F-80EB-017C3C2D5F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7D7E9-DA68-4866-9B0F-F0652B489C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CA30CF-03ED-4FA8-B464-C1FF70CC0A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60AB8-CBC7-415F-8FEB-E1A9E1593C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CCDA7-F6F4-4EDB-88A0-D309A66F95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344EA-6DF2-486D-B103-A5D645CA8A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6D7D1-38CB-4083-ADA2-396B3B00DE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6FC7A-DB74-48F9-AE5F-D79901FE2C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46728-9252-4622-A929-5688F41E07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63275-AB36-46AB-93B8-C4556D1704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2F710-0F6C-4A13-849D-3166D35A77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31BE7-B9FB-4D67-930C-C4975B4563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FF216-CF6A-472A-8CF1-453B9406E4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E2371-5EA5-4372-A1B4-27510D7918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183F1-2027-4A0E-9E29-909426C417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49DF9-BC17-49ED-AA88-7D1A1D463C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AD2FD-46FC-4A19-AD22-7FF6A8F15A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951B3-3137-4905-9588-E217B35738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834B8D-88DC-49B1-AE33-540625121F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24583-56D5-48E0-A14A-14F92144F7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54D2D-59B2-4E3A-AD06-87CF222ACE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61292-99C7-4714-88C4-DDF2BDAAC7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3EA85-F4DC-4082-BBC8-74A28CEFC1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47CCD-3EAF-4BE1-91A5-B5AAE5DDDB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0AD64-DB4E-47A9-907E-DBF0802608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E1D12-9C21-4513-B380-3772815D5F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586D5-2849-4FA6-90EC-4067BCA1E6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4508D-98AD-463F-A1EE-F865843D7E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39817-B36C-400D-A17C-16DEFB91AD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17C1B-AF1F-4881-84B5-09C95EAC89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5A645-81A3-4E53-AB63-1386661F93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8C463-43AD-41B6-BB33-D05BEC13BB9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97CDB-C348-4F73-BE1E-93DF3803D1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8713E-4641-4EB3-AA77-6D6707FF1E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3AF12-D362-4B8C-AE78-FCE0E09988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56517-AA93-40E2-8259-07A6D8C378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C58FBE-B121-44DB-BFBC-EF88AC93F2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510BD-A6E7-43D3-AFD2-8151F30510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9F094-F52E-4221-BC71-E3C702F223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BDF6B-EB4E-429D-876F-E2565EAC49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2310B-6F2C-4655-A86D-56AD2F9A72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292E0-351B-4500-80B7-81D9895B36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C16A8-AFA7-434D-A95F-387CA28B41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0FB4B-BAC9-48DF-9EAD-0930DCCC7C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ADE18-2FFD-48C0-ADF1-E993217C0E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DED9B-B501-483E-933F-43C0CD1FCD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BE248-7D92-46B3-8AD6-BCEFCC0A42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961DA-68BA-4026-9A05-C4FEF4CCEE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B6234-5DD9-4DCE-AD41-C40CD911D8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03194-B797-44ED-8B8A-72B529E894D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42230C-A360-4307-B523-71B7550EF96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21441-10E1-4560-B966-F352053F786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00E4E-37CA-43BB-B52E-96FB584FACD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37B26-DE48-453C-990C-E96A9B8171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A3B65-72A6-4F0C-A0BE-F4021D2035A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B7B55-1816-46C2-8BFC-C6257FBAA20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3FEF0-0E54-4385-A0C9-A118B3655EA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6D87D-F536-4813-B5A2-C098260D4F3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5BE7B-19AF-4710-B3CB-69146E5D5E0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45F2C-AA4F-449B-BC9B-BE08016B119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C193B-030A-41FB-8863-2D5B97A2DDD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9F0DA-5F2B-4311-8A34-FE39D932A2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FD370-1AFE-464C-A283-CE5F99EE63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7FC7B-98EA-4CBD-BE79-7F1C0042AF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667C3-A681-4D76-BA93-F956B42916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0197F-C0CD-4145-BB9A-7D662DFA83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3B26B-47D2-4869-94B6-DFF72C2F1B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1E9C5-415B-45A9-8643-DCCBF91754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B6F8B-51A3-48DC-A175-FAD94303EF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00240-D97A-4EBE-8450-A1EAD51173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C6AA2-2B29-4950-A90B-B58E865DF8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F9891-261C-427D-A6E0-2B657F6770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9168A-0055-4999-98EC-4EE1CDA44F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773CCE-FF39-4088-9A34-A285DAB206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A4BFD-3404-430F-8A6B-8120E4AC27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CF866-9553-4D87-BB77-744488E2B5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D5E0A-E555-4F3D-8F38-7E6BC8C857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FF819-A942-4C0E-AB40-3535543127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2624E-E579-4545-87D5-F9F23913E3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0E7B0-350B-4937-926A-EA97DEDAFF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EF89D-175B-4E2B-95FC-9D11A7FF7D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ED567-116A-4D84-810F-4819722EA8C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26F51-73B7-4271-ABD0-43C2AF4648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5C8ED-6E33-4EDE-8A24-855CE47682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01F5B-2EDB-4E69-9448-C0D296B606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792ED-3A10-4646-981E-A4BB57F47F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B9EAE-5881-489F-8416-645C14D260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23224-0645-41DD-AFFE-8842C8C8B9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FA56E-250B-4DA8-87CE-666075AF03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D63B1-FC17-4C71-9B0A-2AA712830E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6E992-3C80-4B46-89FD-3EDEA3E9A7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C881A-A214-44D9-86B2-E32F77B34E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8B250-52F1-4C08-AE12-0587A46A48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D0DE9-F242-4F38-B7FE-67C0C7B283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1D2A5-6BE7-46A5-BB18-DBD0FBB568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71D6B-BB41-44EA-95A6-B2A1CD7105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B471B-3AA5-44AC-B727-25E6B3202E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F9CFF-91F0-4A3A-BF4B-ED80587851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F7F05-30E5-4C22-A107-397203D721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95F74-0E12-40C3-925A-3F6F67D56D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BA239-41ED-417D-BB7E-E3F56BF755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4C7FA-555F-4F17-9682-9FD23F2C72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6E6356-F4F3-443B-A76B-1BE70FF28C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83275-55E7-4780-8ED6-F77214CC45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1BB5F-CA8C-4B07-B3AE-0B540AA494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0CA38-2903-442E-A17C-56D1A5672D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88A93-BAD5-4C54-B8C7-D8179277D7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1C6D0-4ED9-412A-B829-25546F006B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E855A-6B56-400F-A5AA-082A1D0D88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CED980-ED24-4C8F-A55F-4B71597BFF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9FBF3-53EA-4FD1-B5F4-76FC6433B3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83C2F-8DC2-4D85-99C5-BA7E6BC5F8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CAFC04-CE99-426C-9153-B0AA0AA29B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33390-5D75-494A-9A7D-6396247C77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CE88E-1090-4875-AD91-DA69A07CB6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4FC29-A9E7-4D5C-A827-2364F62BEE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4E1BD-98DF-42FE-A99E-DE84F421B1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41915-1EE5-4B2A-BDA2-61EEF35B12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BEA3C-BA92-47F2-B735-73D4C08EE7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C53B8-362D-454F-B0FC-F9D2B64CC0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2EE62-7EA6-47A1-B459-ABAC7BDD0B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81106-85E3-4A9C-9D25-2C0D598C8B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E56D6-3F91-4D19-9B52-DF207EE439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D2229-4E99-495C-8B85-6FE8E41D64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15B39-9D47-4493-83FE-F7EC94F220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6385C2-0B51-4903-A912-7AB4CD9F05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7A6C37-6355-41CF-85AE-C7E461AD68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D0B94-7C69-4D70-A055-108BADBFE9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FC518-55F4-4B8F-97A1-98B7A38B63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D0C123-9AC9-4363-9F59-C65E78CEEF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593E6-D726-4DDE-8990-7A06C6D8FB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DD19E-4D75-44B2-8DD4-67F8609C62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C7A83-458F-4548-BFF2-975FB45EF8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62BC0A-2154-4759-9943-0318DF4725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C72A9-C799-4888-B83D-6FE6BFB6DF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EB09B-64DE-4EB4-8F29-098D40349D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B2ED0-44E8-4EB3-95FC-A023CC2A32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841A8-FD12-4FEE-AC89-1405D60F14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3138F-4530-4429-8643-CE8B2ECD3C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3E205-6C62-4C9D-AC3D-FD0DEEA8D6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A5DAA-30DD-4F13-949F-30ED1C5B64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959A68-A5C8-49B8-A2B8-5D98C0A5EE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996CC-DB2C-47EE-81DA-F1E38E0ED1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C6F6F-7BA1-4371-9F67-D4586E9390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AF520-5B41-4C90-BD5D-DA5C1B109F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CE475-00C1-4068-95DC-3108A7F617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167F97-9188-476F-B756-A4D0F12C50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14607-E09E-4C14-BA4C-63E71B4E4A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08DB3-D4F0-48C0-83ED-9D0B35E0E1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E91C5-1751-4A6B-8D4A-B7967A4184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CB1EE5-C9A1-4455-8575-02335DA41F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C48D1-DEAB-4DB0-8EA5-3A80AC1B48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93730-755F-48DF-A3FF-88975E2EF2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324000" y="981000"/>
            <a:ext cx="813564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468360" y="836640"/>
            <a:ext cx="8280360" cy="4948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395280" y="126828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46836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863640" y="1392120"/>
            <a:ext cx="795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61128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843" name="Picture 2" descr=""/>
          <p:cNvPicPr/>
          <p:nvPr/>
        </p:nvPicPr>
        <p:blipFill>
          <a:blip r:embed="rId1"/>
          <a:stretch/>
        </p:blipFill>
        <p:spPr>
          <a:xfrm>
            <a:off x="0" y="0"/>
            <a:ext cx="9144000" cy="1368360"/>
          </a:xfrm>
          <a:prstGeom prst="rect">
            <a:avLst/>
          </a:prstGeom>
          <a:ln w="0">
            <a:noFill/>
          </a:ln>
        </p:spPr>
      </p:pic>
      <p:pic>
        <p:nvPicPr>
          <p:cNvPr id="6844" name="Picture 3" descr=""/>
          <p:cNvPicPr/>
          <p:nvPr/>
        </p:nvPicPr>
        <p:blipFill>
          <a:blip r:embed="rId2"/>
          <a:stretch/>
        </p:blipFill>
        <p:spPr>
          <a:xfrm>
            <a:off x="1258920" y="2060640"/>
            <a:ext cx="1297080" cy="1528560"/>
          </a:xfrm>
          <a:prstGeom prst="rect">
            <a:avLst/>
          </a:prstGeom>
          <a:ln w="0">
            <a:noFill/>
          </a:ln>
        </p:spPr>
      </p:pic>
      <p:pic>
        <p:nvPicPr>
          <p:cNvPr id="6845" name="Picture 4" descr=""/>
          <p:cNvPicPr/>
          <p:nvPr/>
        </p:nvPicPr>
        <p:blipFill>
          <a:blip r:embed="rId3"/>
          <a:stretch/>
        </p:blipFill>
        <p:spPr>
          <a:xfrm>
            <a:off x="6948360" y="1989000"/>
            <a:ext cx="1444680" cy="1573200"/>
          </a:xfrm>
          <a:prstGeom prst="rect">
            <a:avLst/>
          </a:prstGeom>
          <a:ln w="0">
            <a:noFill/>
          </a:ln>
        </p:spPr>
      </p:pic>
      <p:sp>
        <p:nvSpPr>
          <p:cNvPr id="6846"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6847"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395280" y="1125360"/>
            <a:ext cx="8424720" cy="4588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7:30Z</dcterms:modified>
  <cp:revision>1</cp:revision>
  <dc:subject/>
  <dc:title/>
</cp:coreProperties>
</file>